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projctor.wav" ContentType="audio/x-wav"/>
  <Override PartName="/ppt/media/image1.png" ContentType="image/png"/>
  <Override PartName="/ppt/media/image2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C7AF9-5162-4D30-B6E0-BFA080F89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EB647-B632-4D8D-9633-0546183D2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EEFF8-E604-4802-A765-6B440A061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C87FB-C518-4145-922E-9BBDFF30B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DD7D5-040A-434C-AAB2-F7995E0EC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BE480-779E-4CC8-9DFF-60CE60947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20DFB-044B-4CD6-865D-1087D0960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5342E-B676-4AC7-822A-5104F54F0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97526-4B28-4A02-AEE2-A1F14FE05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9629C-D575-4033-8366-000030C36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C5199-B841-4DA7-98DB-126BA7FB5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7A369-98BC-4487-8523-D2C7328CA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28CBE-608F-4378-A203-C96874C425F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" Target="slide7.xml"/><Relationship Id="rId6" Type="http://schemas.openxmlformats.org/officeDocument/2006/relationships/slide" Target="slide7.xml"/><Relationship Id="rId7" Type="http://schemas.openxmlformats.org/officeDocument/2006/relationships/slide" Target="slide7.xml"/><Relationship Id="rId8" Type="http://schemas.openxmlformats.org/officeDocument/2006/relationships/slide" Target="slide7.xml"/><Relationship Id="rId9" Type="http://schemas.openxmlformats.org/officeDocument/2006/relationships/slide" Target="slide8.xml"/><Relationship Id="rId10" Type="http://schemas.openxmlformats.org/officeDocument/2006/relationships/slide" Target="slide17.xml"/><Relationship Id="rId11" Type="http://schemas.openxmlformats.org/officeDocument/2006/relationships/hyperlink" Target="file:///&#30446;&#24405;.ppt" TargetMode="External"/><Relationship Id="rId12" Type="http://schemas.openxmlformats.org/officeDocument/2006/relationships/audio" Target="../media/projctor.wav"/><Relationship Id="rId1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audio" Target="../media/projctor.wav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第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章   图形操作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914400" y="1981080"/>
            <a:ext cx="7391520" cy="30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内容摘要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ccccff"/>
                </a:solidFill>
                <a:uFillTx/>
                <a:latin typeface="Times New Roman"/>
                <a:hlinkClick r:id="rId1" action="ppaction://hlinksldjump"/>
              </a:rPr>
              <a:t>CD</a:t>
            </a:r>
            <a:r>
              <a:rPr b="0" lang="zh-CN" sz="28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和</a:t>
            </a:r>
            <a:r>
              <a:rPr b="0" lang="zh-CN" sz="2800" spc="-1" strike="noStrike" u="sng">
                <a:solidFill>
                  <a:srgbClr val="ccccff"/>
                </a:solidFill>
                <a:uFillTx/>
                <a:latin typeface="Times New Roman"/>
                <a:hlinkClick r:id="rId3" action="ppaction://hlinksldjump"/>
              </a:rPr>
              <a:t>CDC</a:t>
            </a:r>
            <a:r>
              <a:rPr b="0" lang="zh-CN" sz="2800" spc="-1" strike="noStrike" u="sng">
                <a:solidFill>
                  <a:srgbClr val="ccccff"/>
                </a:solidFill>
                <a:uFillTx/>
                <a:latin typeface="Times New Roman"/>
                <a:hlinkClick r:id="rId4" action="ppaction://hlinksldjump"/>
              </a:rPr>
              <a:t>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ccccff"/>
                </a:solidFill>
                <a:uFillTx/>
                <a:latin typeface="Times New Roman"/>
                <a:hlinkClick r:id="rId5" action="ppaction://hlinksldjump"/>
              </a:rPr>
              <a:t>GDI</a:t>
            </a:r>
            <a:r>
              <a:rPr b="0" lang="zh-CN" sz="2800" spc="-1" strike="noStrike" u="sng">
                <a:solidFill>
                  <a:srgbClr val="ccccff"/>
                </a:solidFill>
                <a:uFillTx/>
                <a:latin typeface="Times New Roman"/>
                <a:hlinkClick r:id="rId6" action="ppaction://hlinksldjump"/>
              </a:rPr>
              <a:t>和</a:t>
            </a:r>
            <a:r>
              <a:rPr b="0" lang="zh-CN" sz="2800" spc="-1" strike="noStrike" u="sng">
                <a:solidFill>
                  <a:srgbClr val="ccccff"/>
                </a:solidFill>
                <a:uFillTx/>
                <a:latin typeface="Times New Roman"/>
                <a:hlinkClick r:id="rId7" action="ppaction://hlinksldjump"/>
              </a:rPr>
              <a:t>CGdiObject</a:t>
            </a:r>
            <a:r>
              <a:rPr b="0" lang="zh-CN" sz="2800" spc="-1" strike="noStrike" u="sng">
                <a:solidFill>
                  <a:srgbClr val="ccccff"/>
                </a:solidFill>
                <a:uFillTx/>
                <a:latin typeface="Times New Roman"/>
                <a:hlinkClick r:id="rId8" action="ppaction://hlinksldjump"/>
              </a:rPr>
              <a:t>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ccccff"/>
                </a:solidFill>
                <a:uFillTx/>
                <a:latin typeface="Times New Roman"/>
                <a:hlinkClick r:id="rId9" action="ppaction://hlinksldjump"/>
              </a:rPr>
              <a:t>绘图程序实例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ccccff"/>
                </a:solidFill>
                <a:uFillTx/>
                <a:latin typeface="Times New Roman"/>
                <a:hlinkClick r:id="rId10" action="ppaction://hlinksldjump"/>
              </a:rPr>
              <a:t>绘图程序实例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916400" y="6095880"/>
            <a:ext cx="6073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ccccff"/>
                </a:solidFill>
                <a:uFillTx/>
                <a:latin typeface="Times New Roman"/>
                <a:hlinkClick r:id="rId11"/>
              </a:rPr>
              <a:t>返回目录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2" name="projctor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380520" y="1519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添加函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添加菜单响应函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5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33520" y="914400"/>
            <a:ext cx="8381880" cy="367128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void CMoveTestView::OnGraphMove(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flag="move"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MoveObject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}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void CMoveTestView::OnGraphTrack(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flag="track";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69960" y="4765680"/>
            <a:ext cx="8169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代码解释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当选择菜单“轨迹”时，把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flag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赋值为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track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当选择菜单“移动”时，把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flag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赋值为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move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.MoveObjec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）；调用此函数可产生沿着画好轨道运动的车轮。该函数将在后面给出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380520" y="152280"/>
            <a:ext cx="8458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添加鼠标响应函数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5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33520" y="685800"/>
            <a:ext cx="8381880" cy="552348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void CMoveTestView::OnLButtonDown(UINT nFlags, CPoint point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if(flag= ="track"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struct pointstruct *temppoin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while(pointlisthea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temppoint = pointlisthead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pointlisthead = pointlisthead-&gt;nex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delete temppoin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drawtrack=tru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CView::OnLButtonDown(nFlags, poin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5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33520" y="609480"/>
            <a:ext cx="8381880" cy="611280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CMoveTestView::OnMouseMove(UINT nFlags, CPoint point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(drawtrack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ClientDC dc(this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c.SetPixel(point.x,point.y,RGB(0,0,0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ruct pointstruct *newpoint=new struct pointstruc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newpoint-&gt;point.x=point.x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newpoint-&gt;point.y=point.y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newpoint-&gt;next=NULL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(pointlisthead= =NUL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ointlisthead=pointlisttrail=newpoin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ointlisttrail-&gt;next=newpoin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ointlisttrail=newpoin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View::OnMouseMove(nFlags, point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5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52280" y="152280"/>
            <a:ext cx="8382240" cy="192888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void CMoveTestView::OnLButtonUp(UINT nFlags, CPoint point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if(drawtrack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drawtrack=false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CView::OnLButtonUp(nFlags, point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}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89080" y="2327400"/>
            <a:ext cx="8474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当按下鼠标左键时调用函数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如果当前用户选择的是“轨迹”菜单，说明用户要绘制轨道，则把变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rawtrack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赋值为真，此时鼠标移动则绘制轨道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当在视图窗口中移动鼠标时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根据变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rawtrack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判断是否要绘制轨道，在绘制轨道时首先创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设备环境对象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调用函数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etPixel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oint.x,point.y,RG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0,0,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）在鼠标当前点画点。并把鼠标当前点加入轨迹链表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当鼠标左键抬起时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如果变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rawtrack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为真，把他设置为假以结束轨迹绘制。此后，鼠标再移动，将不再绘制轨迹，除非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flag==“track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时再按下鼠标左键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3805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构造函数中将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rawtrack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初始化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5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33520" y="914400"/>
            <a:ext cx="8381880" cy="255996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CMoveTestView::CMoveTestView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// TODO: add construction code 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drawtrack=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pointlisthead =NUL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69960" y="4765680"/>
            <a:ext cx="816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6. MoveObjec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）函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5840" y="15840"/>
            <a:ext cx="8975880" cy="1306080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void CMoveTestView::MoveObject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struct pointstruct *pointtemp=pointlisthead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int i=1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CPoint pointold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BOOL first=true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while(pointtemp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CClientDC dc(this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CDC *memdc=new CDC;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memdc-&gt;CreateCompatibleDC(&amp;dc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if(!firs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CBitmap bitmap1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if(i%2==0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bitmap1.LoadBitmap(IDB_BIT1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bitmap1.LoadBitmap(IDB_BIT2);//DSTINVE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memdc-&gt;SelectObject(&amp;bitmap1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dc.BitBlt(pointold.x-24,pointold.y-24,48,48,memdc,0,0,PATPAINT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first=false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CBitmap bitma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if(i%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bitmap.LoadBitmap(IDB_BIT1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bitmap.LoadBitmap(IDB_BIT2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memdc-&gt;SelectObject(&amp;bitmap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dc.BitBlt(pointtemp-&gt;point.x-24,pointtemp-&gt;point.y-24,48,48,memdc,0,0,SRCAND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pointold.x=pointtemp-&gt;point.x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pointold.y=pointtemp-&gt;point.y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delete memdc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pointtemp=pointtemp-&gt;nex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i++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for(int j=0;j&lt;5000000;j++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pointtemp=pointlisthead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while(pointtemp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CClientDC dc(this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dc.SetPixel(pointtemp-&gt;point.x,pointtemp-&gt;point.y,RGB(0,0,0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pointtemp=pointtemp-&gt;nex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52280" y="152280"/>
            <a:ext cx="88394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代码解释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变量用来标志该绘制哪一个位图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变量用来判断是否是第一个点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c.BitBl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ointold.x-24,pointold.y-24,48,48,memdc,0,0,PATPAINT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调用绘制位图函数把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memd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设备环境对象中的位图拷贝到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所标识的设备环境对象中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ointtemp=pointlisthea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while(pointtem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ClientDC dc(thi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dc.SetPixel(pointtemp-&gt;point.x,pointtemp-&gt;point.y,RGB(0,0,0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ointtemp=pointtemp-&gt;nex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车轮运动完毕后，重新绘制轨迹各点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绘图程序实例二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805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用应用向导产生单文档程序框架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Draw 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编辑各种资源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定义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I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ID_DRAW_LIN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ID_DRAW_RECTANG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ID_DRAW_ELLIP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ID_DRAW_FIL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ID_DRAW_LINEWIDTH_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ID_DRAW_LINEWIDTH_TW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ID_DRAW_LINEWIDTH_THRE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ID_DRAW_LINEWIDTH_FOU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ID_DRAW_LINEWIDTH_F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编辑菜单资源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编辑工具条资源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编辑光标资源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5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5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228600" y="304920"/>
            <a:ext cx="8456400" cy="6146640"/>
            <a:chOff x="228600" y="304920"/>
            <a:chExt cx="8456400" cy="6146640"/>
          </a:xfrm>
        </p:grpSpPr>
        <p:grpSp>
          <p:nvGrpSpPr>
            <p:cNvPr id="91" name=""/>
            <p:cNvGrpSpPr/>
            <p:nvPr/>
          </p:nvGrpSpPr>
          <p:grpSpPr>
            <a:xfrm>
              <a:off x="235080" y="307440"/>
              <a:ext cx="8442720" cy="6140520"/>
              <a:chOff x="235080" y="307440"/>
              <a:chExt cx="8442720" cy="6140520"/>
            </a:xfrm>
          </p:grpSpPr>
          <p:grpSp>
            <p:nvGrpSpPr>
              <p:cNvPr id="92" name=""/>
              <p:cNvGrpSpPr/>
              <p:nvPr/>
            </p:nvGrpSpPr>
            <p:grpSpPr>
              <a:xfrm>
                <a:off x="235080" y="307440"/>
                <a:ext cx="1579680" cy="383760"/>
                <a:chOff x="235080" y="307440"/>
                <a:chExt cx="1579680" cy="383760"/>
              </a:xfrm>
            </p:grpSpPr>
            <p:sp>
              <p:nvSpPr>
                <p:cNvPr id="93" name=""/>
                <p:cNvSpPr/>
                <p:nvPr/>
              </p:nvSpPr>
              <p:spPr>
                <a:xfrm>
                  <a:off x="329760" y="307440"/>
                  <a:ext cx="1389960" cy="38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200" spc="-1" strike="noStrike">
                      <a:solidFill>
                        <a:srgbClr val="000000"/>
                      </a:solidFill>
                      <a:latin typeface="Times New Roman"/>
                    </a:rPr>
                    <a:t>菜单项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235080" y="307440"/>
                  <a:ext cx="1579680" cy="38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" name=""/>
              <p:cNvGrpSpPr/>
              <p:nvPr/>
            </p:nvGrpSpPr>
            <p:grpSpPr>
              <a:xfrm>
                <a:off x="1815120" y="307440"/>
                <a:ext cx="3177720" cy="383760"/>
                <a:chOff x="1815120" y="307440"/>
                <a:chExt cx="3177720" cy="383760"/>
              </a:xfrm>
            </p:grpSpPr>
            <p:sp>
              <p:nvSpPr>
                <p:cNvPr id="96" name=""/>
                <p:cNvSpPr/>
                <p:nvPr/>
              </p:nvSpPr>
              <p:spPr>
                <a:xfrm>
                  <a:off x="1909440" y="307440"/>
                  <a:ext cx="2988360" cy="38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ID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>
                  <a:off x="1815120" y="307440"/>
                  <a:ext cx="3177720" cy="38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" name=""/>
              <p:cNvGrpSpPr/>
              <p:nvPr/>
            </p:nvGrpSpPr>
            <p:grpSpPr>
              <a:xfrm>
                <a:off x="4993200" y="307440"/>
                <a:ext cx="1850760" cy="383760"/>
                <a:chOff x="4993200" y="307440"/>
                <a:chExt cx="1850760" cy="38376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5087520" y="307440"/>
                  <a:ext cx="1661400" cy="38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Captio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4993200" y="307440"/>
                  <a:ext cx="1850760" cy="38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1" name=""/>
              <p:cNvGrpSpPr/>
              <p:nvPr/>
            </p:nvGrpSpPr>
            <p:grpSpPr>
              <a:xfrm>
                <a:off x="6844680" y="307440"/>
                <a:ext cx="1833120" cy="383760"/>
                <a:chOff x="6844680" y="307440"/>
                <a:chExt cx="1833120" cy="383760"/>
              </a:xfrm>
            </p:grpSpPr>
            <p:sp>
              <p:nvSpPr>
                <p:cNvPr id="102" name=""/>
                <p:cNvSpPr/>
                <p:nvPr/>
              </p:nvSpPr>
              <p:spPr>
                <a:xfrm>
                  <a:off x="6939000" y="307440"/>
                  <a:ext cx="1643760" cy="38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200" spc="-1" strike="noStrike">
                      <a:solidFill>
                        <a:srgbClr val="000000"/>
                      </a:solidFill>
                      <a:latin typeface="Times New Roman"/>
                    </a:rPr>
                    <a:t>属性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6844680" y="307440"/>
                  <a:ext cx="1833120" cy="38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4" name=""/>
              <p:cNvGrpSpPr/>
              <p:nvPr/>
            </p:nvGrpSpPr>
            <p:grpSpPr>
              <a:xfrm>
                <a:off x="235080" y="691200"/>
                <a:ext cx="1579680" cy="383760"/>
                <a:chOff x="235080" y="691200"/>
                <a:chExt cx="1579680" cy="383760"/>
              </a:xfrm>
            </p:grpSpPr>
            <p:sp>
              <p:nvSpPr>
                <p:cNvPr id="105" name=""/>
                <p:cNvSpPr/>
                <p:nvPr/>
              </p:nvSpPr>
              <p:spPr>
                <a:xfrm>
                  <a:off x="329760" y="691200"/>
                  <a:ext cx="1389960" cy="38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200" spc="-1" strike="noStrike">
                      <a:solidFill>
                        <a:srgbClr val="000000"/>
                      </a:solidFill>
                      <a:latin typeface="Times New Roman"/>
                    </a:rPr>
                    <a:t>直线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235080" y="691200"/>
                  <a:ext cx="1579680" cy="38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7" name=""/>
              <p:cNvGrpSpPr/>
              <p:nvPr/>
            </p:nvGrpSpPr>
            <p:grpSpPr>
              <a:xfrm>
                <a:off x="1815120" y="691200"/>
                <a:ext cx="3177720" cy="383760"/>
                <a:chOff x="1815120" y="691200"/>
                <a:chExt cx="3177720" cy="383760"/>
              </a:xfrm>
            </p:grpSpPr>
            <p:sp>
              <p:nvSpPr>
                <p:cNvPr id="108" name=""/>
                <p:cNvSpPr/>
                <p:nvPr/>
              </p:nvSpPr>
              <p:spPr>
                <a:xfrm>
                  <a:off x="1909440" y="691200"/>
                  <a:ext cx="2988360" cy="38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ID_DRAW_LIN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1815120" y="691200"/>
                  <a:ext cx="3177720" cy="38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" name=""/>
              <p:cNvGrpSpPr/>
              <p:nvPr/>
            </p:nvGrpSpPr>
            <p:grpSpPr>
              <a:xfrm>
                <a:off x="4993200" y="691200"/>
                <a:ext cx="1850760" cy="383760"/>
                <a:chOff x="4993200" y="691200"/>
                <a:chExt cx="1850760" cy="383760"/>
              </a:xfrm>
            </p:grpSpPr>
            <p:sp>
              <p:nvSpPr>
                <p:cNvPr id="111" name=""/>
                <p:cNvSpPr/>
                <p:nvPr/>
              </p:nvSpPr>
              <p:spPr>
                <a:xfrm>
                  <a:off x="5087520" y="691200"/>
                  <a:ext cx="1661400" cy="38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200" spc="-1" strike="noStrike">
                      <a:solidFill>
                        <a:srgbClr val="000000"/>
                      </a:solidFill>
                      <a:latin typeface="Times New Roman"/>
                    </a:rPr>
                    <a:t>直线（</a:t>
                  </a:r>
                  <a:r>
                    <a:rPr b="0" lang="zh-CN" sz="1200" spc="-1" strike="noStrike">
                      <a:solidFill>
                        <a:srgbClr val="000000"/>
                      </a:solidFill>
                      <a:latin typeface="Times New Roman"/>
                    </a:rPr>
                    <a:t>&amp;L</a:t>
                  </a:r>
                  <a:r>
                    <a:rPr b="0" lang="zh-CN" sz="1200" spc="-1" strike="noStrike">
                      <a:solidFill>
                        <a:srgbClr val="000000"/>
                      </a:solidFill>
                      <a:latin typeface="Times New Roman"/>
                    </a:rPr>
                    <a:t>）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4993200" y="691200"/>
                  <a:ext cx="1850760" cy="38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" name=""/>
              <p:cNvGrpSpPr/>
              <p:nvPr/>
            </p:nvGrpSpPr>
            <p:grpSpPr>
              <a:xfrm>
                <a:off x="6844680" y="691200"/>
                <a:ext cx="1833120" cy="383760"/>
                <a:chOff x="6844680" y="691200"/>
                <a:chExt cx="1833120" cy="38376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6939000" y="691200"/>
                  <a:ext cx="1643760" cy="38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2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6844680" y="691200"/>
                  <a:ext cx="1833120" cy="38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235080" y="1074960"/>
                <a:ext cx="1579680" cy="383760"/>
                <a:chOff x="235080" y="1074960"/>
                <a:chExt cx="1579680" cy="38376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329760" y="1074960"/>
                  <a:ext cx="1389960" cy="38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200" spc="-1" strike="noStrike">
                      <a:solidFill>
                        <a:srgbClr val="000000"/>
                      </a:solidFill>
                      <a:latin typeface="Times New Roman"/>
                    </a:rPr>
                    <a:t>矩形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235080" y="1074960"/>
                  <a:ext cx="1579680" cy="38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9" name=""/>
              <p:cNvGrpSpPr/>
              <p:nvPr/>
            </p:nvGrpSpPr>
            <p:grpSpPr>
              <a:xfrm>
                <a:off x="1815120" y="1074960"/>
                <a:ext cx="3177720" cy="383760"/>
                <a:chOff x="1815120" y="1074960"/>
                <a:chExt cx="3177720" cy="383760"/>
              </a:xfrm>
            </p:grpSpPr>
            <p:sp>
              <p:nvSpPr>
                <p:cNvPr id="120" name=""/>
                <p:cNvSpPr/>
                <p:nvPr/>
              </p:nvSpPr>
              <p:spPr>
                <a:xfrm>
                  <a:off x="1909440" y="1074960"/>
                  <a:ext cx="2988360" cy="38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ID_DRAW_RECTANGL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815120" y="1074960"/>
                  <a:ext cx="3177720" cy="38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2" name=""/>
              <p:cNvGrpSpPr/>
              <p:nvPr/>
            </p:nvGrpSpPr>
            <p:grpSpPr>
              <a:xfrm>
                <a:off x="4993200" y="1074960"/>
                <a:ext cx="1850760" cy="383760"/>
                <a:chOff x="4993200" y="1074960"/>
                <a:chExt cx="1850760" cy="383760"/>
              </a:xfrm>
            </p:grpSpPr>
            <p:sp>
              <p:nvSpPr>
                <p:cNvPr id="123" name=""/>
                <p:cNvSpPr/>
                <p:nvPr/>
              </p:nvSpPr>
              <p:spPr>
                <a:xfrm>
                  <a:off x="5087520" y="1074960"/>
                  <a:ext cx="1661400" cy="38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200" spc="-1" strike="noStrike">
                      <a:solidFill>
                        <a:srgbClr val="000000"/>
                      </a:solidFill>
                      <a:latin typeface="Times New Roman"/>
                    </a:rPr>
                    <a:t>矩形（</a:t>
                  </a:r>
                  <a:r>
                    <a:rPr b="0" lang="zh-CN" sz="1200" spc="-1" strike="noStrike">
                      <a:solidFill>
                        <a:srgbClr val="000000"/>
                      </a:solidFill>
                      <a:latin typeface="Times New Roman"/>
                    </a:rPr>
                    <a:t>&amp;R</a:t>
                  </a:r>
                  <a:r>
                    <a:rPr b="0" lang="zh-CN" sz="1200" spc="-1" strike="noStrike">
                      <a:solidFill>
                        <a:srgbClr val="000000"/>
                      </a:solidFill>
                      <a:latin typeface="Times New Roman"/>
                    </a:rPr>
                    <a:t>）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4993200" y="1074960"/>
                  <a:ext cx="1850760" cy="38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5" name=""/>
              <p:cNvGrpSpPr/>
              <p:nvPr/>
            </p:nvGrpSpPr>
            <p:grpSpPr>
              <a:xfrm>
                <a:off x="6844680" y="1074960"/>
                <a:ext cx="1833120" cy="383760"/>
                <a:chOff x="6844680" y="1074960"/>
                <a:chExt cx="1833120" cy="383760"/>
              </a:xfrm>
            </p:grpSpPr>
            <p:sp>
              <p:nvSpPr>
                <p:cNvPr id="126" name=""/>
                <p:cNvSpPr/>
                <p:nvPr/>
              </p:nvSpPr>
              <p:spPr>
                <a:xfrm>
                  <a:off x="6939000" y="1074960"/>
                  <a:ext cx="1643760" cy="38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2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6844680" y="1074960"/>
                  <a:ext cx="1833120" cy="38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8" name=""/>
              <p:cNvGrpSpPr/>
              <p:nvPr/>
            </p:nvGrpSpPr>
            <p:grpSpPr>
              <a:xfrm>
                <a:off x="235080" y="1458720"/>
                <a:ext cx="1579680" cy="383760"/>
                <a:chOff x="235080" y="1458720"/>
                <a:chExt cx="1579680" cy="383760"/>
              </a:xfrm>
            </p:grpSpPr>
            <p:sp>
              <p:nvSpPr>
                <p:cNvPr id="129" name=""/>
                <p:cNvSpPr/>
                <p:nvPr/>
              </p:nvSpPr>
              <p:spPr>
                <a:xfrm>
                  <a:off x="329760" y="1458720"/>
                  <a:ext cx="1389960" cy="38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200" spc="-1" strike="noStrike">
                      <a:solidFill>
                        <a:srgbClr val="000000"/>
                      </a:solidFill>
                      <a:latin typeface="Times New Roman"/>
                    </a:rPr>
                    <a:t>椭圆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235080" y="1458720"/>
                  <a:ext cx="1579680" cy="38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" name=""/>
              <p:cNvGrpSpPr/>
              <p:nvPr/>
            </p:nvGrpSpPr>
            <p:grpSpPr>
              <a:xfrm>
                <a:off x="1815120" y="1458720"/>
                <a:ext cx="3177720" cy="383760"/>
                <a:chOff x="1815120" y="1458720"/>
                <a:chExt cx="3177720" cy="383760"/>
              </a:xfrm>
            </p:grpSpPr>
            <p:sp>
              <p:nvSpPr>
                <p:cNvPr id="132" name=""/>
                <p:cNvSpPr/>
                <p:nvPr/>
              </p:nvSpPr>
              <p:spPr>
                <a:xfrm>
                  <a:off x="1909440" y="1458720"/>
                  <a:ext cx="2988360" cy="38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ID_DRAW_ELLIP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15120" y="1458720"/>
                  <a:ext cx="3177720" cy="38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4" name=""/>
              <p:cNvGrpSpPr/>
              <p:nvPr/>
            </p:nvGrpSpPr>
            <p:grpSpPr>
              <a:xfrm>
                <a:off x="4993200" y="1458720"/>
                <a:ext cx="1850760" cy="383760"/>
                <a:chOff x="4993200" y="1458720"/>
                <a:chExt cx="1850760" cy="38376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5087520" y="1458720"/>
                  <a:ext cx="1661400" cy="38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200" spc="-1" strike="noStrike">
                      <a:solidFill>
                        <a:srgbClr val="000000"/>
                      </a:solidFill>
                      <a:latin typeface="Times New Roman"/>
                    </a:rPr>
                    <a:t>椭圆（</a:t>
                  </a:r>
                  <a:r>
                    <a:rPr b="0" lang="zh-CN" sz="1200" spc="-1" strike="noStrike">
                      <a:solidFill>
                        <a:srgbClr val="000000"/>
                      </a:solidFill>
                      <a:latin typeface="Times New Roman"/>
                    </a:rPr>
                    <a:t>&amp;E</a:t>
                  </a:r>
                  <a:r>
                    <a:rPr b="0" lang="zh-CN" sz="1200" spc="-1" strike="noStrike">
                      <a:solidFill>
                        <a:srgbClr val="000000"/>
                      </a:solidFill>
                      <a:latin typeface="Times New Roman"/>
                    </a:rPr>
                    <a:t>）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4993200" y="1458720"/>
                  <a:ext cx="1850760" cy="38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7" name=""/>
              <p:cNvGrpSpPr/>
              <p:nvPr/>
            </p:nvGrpSpPr>
            <p:grpSpPr>
              <a:xfrm>
                <a:off x="6844680" y="1458720"/>
                <a:ext cx="1833120" cy="383760"/>
                <a:chOff x="6844680" y="1458720"/>
                <a:chExt cx="1833120" cy="383760"/>
              </a:xfrm>
            </p:grpSpPr>
            <p:sp>
              <p:nvSpPr>
                <p:cNvPr id="138" name=""/>
                <p:cNvSpPr/>
                <p:nvPr/>
              </p:nvSpPr>
              <p:spPr>
                <a:xfrm>
                  <a:off x="6939000" y="1458720"/>
                  <a:ext cx="1643760" cy="38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2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6844680" y="1458720"/>
                  <a:ext cx="1833120" cy="38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0" name=""/>
              <p:cNvGrpSpPr/>
              <p:nvPr/>
            </p:nvGrpSpPr>
            <p:grpSpPr>
              <a:xfrm>
                <a:off x="235080" y="1842840"/>
                <a:ext cx="1579680" cy="383760"/>
                <a:chOff x="235080" y="1842840"/>
                <a:chExt cx="1579680" cy="38376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329760" y="1842840"/>
                  <a:ext cx="1389960" cy="38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200" spc="-1" strike="noStrike">
                      <a:solidFill>
                        <a:srgbClr val="000000"/>
                      </a:solidFill>
                      <a:latin typeface="Times New Roman"/>
                    </a:rPr>
                    <a:t>填充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235080" y="1842840"/>
                  <a:ext cx="1579680" cy="38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3" name=""/>
              <p:cNvGrpSpPr/>
              <p:nvPr/>
            </p:nvGrpSpPr>
            <p:grpSpPr>
              <a:xfrm>
                <a:off x="1815120" y="1842840"/>
                <a:ext cx="3177720" cy="383760"/>
                <a:chOff x="1815120" y="1842840"/>
                <a:chExt cx="3177720" cy="383760"/>
              </a:xfrm>
            </p:grpSpPr>
            <p:sp>
              <p:nvSpPr>
                <p:cNvPr id="144" name=""/>
                <p:cNvSpPr/>
                <p:nvPr/>
              </p:nvSpPr>
              <p:spPr>
                <a:xfrm>
                  <a:off x="1909440" y="1842840"/>
                  <a:ext cx="2988360" cy="38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ID_DRAW_FILL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1815120" y="1842840"/>
                  <a:ext cx="3177720" cy="38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6" name=""/>
              <p:cNvGrpSpPr/>
              <p:nvPr/>
            </p:nvGrpSpPr>
            <p:grpSpPr>
              <a:xfrm>
                <a:off x="4993200" y="1842840"/>
                <a:ext cx="1850760" cy="383760"/>
                <a:chOff x="4993200" y="1842840"/>
                <a:chExt cx="1850760" cy="383760"/>
              </a:xfrm>
            </p:grpSpPr>
            <p:sp>
              <p:nvSpPr>
                <p:cNvPr id="147" name=""/>
                <p:cNvSpPr/>
                <p:nvPr/>
              </p:nvSpPr>
              <p:spPr>
                <a:xfrm>
                  <a:off x="5087520" y="1842840"/>
                  <a:ext cx="1661400" cy="38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200" spc="-1" strike="noStrike">
                      <a:solidFill>
                        <a:srgbClr val="000000"/>
                      </a:solidFill>
                      <a:latin typeface="Times New Roman"/>
                    </a:rPr>
                    <a:t>填充（</a:t>
                  </a:r>
                  <a:r>
                    <a:rPr b="0" lang="zh-CN" sz="1200" spc="-1" strike="noStrike">
                      <a:solidFill>
                        <a:srgbClr val="000000"/>
                      </a:solidFill>
                      <a:latin typeface="Times New Roman"/>
                    </a:rPr>
                    <a:t>&amp;F</a:t>
                  </a:r>
                  <a:r>
                    <a:rPr b="0" lang="zh-CN" sz="1200" spc="-1" strike="noStrike">
                      <a:solidFill>
                        <a:srgbClr val="000000"/>
                      </a:solidFill>
                      <a:latin typeface="Times New Roman"/>
                    </a:rPr>
                    <a:t>）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4993200" y="1842840"/>
                  <a:ext cx="1850760" cy="38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9" name=""/>
              <p:cNvGrpSpPr/>
              <p:nvPr/>
            </p:nvGrpSpPr>
            <p:grpSpPr>
              <a:xfrm>
                <a:off x="6844680" y="1842840"/>
                <a:ext cx="1833120" cy="383760"/>
                <a:chOff x="6844680" y="1842840"/>
                <a:chExt cx="1833120" cy="383760"/>
              </a:xfrm>
            </p:grpSpPr>
            <p:sp>
              <p:nvSpPr>
                <p:cNvPr id="150" name=""/>
                <p:cNvSpPr/>
                <p:nvPr/>
              </p:nvSpPr>
              <p:spPr>
                <a:xfrm>
                  <a:off x="6939000" y="1842840"/>
                  <a:ext cx="1643760" cy="38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2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6844680" y="1842840"/>
                  <a:ext cx="1833120" cy="38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2" name=""/>
              <p:cNvGrpSpPr/>
              <p:nvPr/>
            </p:nvGrpSpPr>
            <p:grpSpPr>
              <a:xfrm>
                <a:off x="235080" y="2226600"/>
                <a:ext cx="1579680" cy="383760"/>
                <a:chOff x="235080" y="2226600"/>
                <a:chExt cx="1579680" cy="383760"/>
              </a:xfrm>
            </p:grpSpPr>
            <p:sp>
              <p:nvSpPr>
                <p:cNvPr id="153" name=""/>
                <p:cNvSpPr/>
                <p:nvPr/>
              </p:nvSpPr>
              <p:spPr>
                <a:xfrm>
                  <a:off x="329760" y="2226600"/>
                  <a:ext cx="1389960" cy="38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200" spc="-1" strike="noStrike">
                      <a:solidFill>
                        <a:srgbClr val="000000"/>
                      </a:solidFill>
                      <a:latin typeface="Times New Roman"/>
                    </a:rPr>
                    <a:t>分隔线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235080" y="2226600"/>
                  <a:ext cx="1579680" cy="38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5" name=""/>
              <p:cNvGrpSpPr/>
              <p:nvPr/>
            </p:nvGrpSpPr>
            <p:grpSpPr>
              <a:xfrm>
                <a:off x="1815120" y="2226600"/>
                <a:ext cx="3177720" cy="383760"/>
                <a:chOff x="1815120" y="2226600"/>
                <a:chExt cx="3177720" cy="383760"/>
              </a:xfrm>
            </p:grpSpPr>
            <p:sp>
              <p:nvSpPr>
                <p:cNvPr id="156" name=""/>
                <p:cNvSpPr/>
                <p:nvPr/>
              </p:nvSpPr>
              <p:spPr>
                <a:xfrm>
                  <a:off x="1909440" y="2226600"/>
                  <a:ext cx="2988360" cy="38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2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1815120" y="2226600"/>
                  <a:ext cx="3177720" cy="38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8" name=""/>
              <p:cNvGrpSpPr/>
              <p:nvPr/>
            </p:nvGrpSpPr>
            <p:grpSpPr>
              <a:xfrm>
                <a:off x="4993200" y="2226600"/>
                <a:ext cx="1850760" cy="383760"/>
                <a:chOff x="4993200" y="2226600"/>
                <a:chExt cx="1850760" cy="38376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5087520" y="2226600"/>
                  <a:ext cx="1661400" cy="38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2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4993200" y="2226600"/>
                  <a:ext cx="1850760" cy="38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1" name=""/>
              <p:cNvGrpSpPr/>
              <p:nvPr/>
            </p:nvGrpSpPr>
            <p:grpSpPr>
              <a:xfrm>
                <a:off x="6844680" y="2226600"/>
                <a:ext cx="1833120" cy="383760"/>
                <a:chOff x="6844680" y="2226600"/>
                <a:chExt cx="1833120" cy="383760"/>
              </a:xfrm>
            </p:grpSpPr>
            <p:sp>
              <p:nvSpPr>
                <p:cNvPr id="162" name=""/>
                <p:cNvSpPr/>
                <p:nvPr/>
              </p:nvSpPr>
              <p:spPr>
                <a:xfrm>
                  <a:off x="6939000" y="2226600"/>
                  <a:ext cx="1643760" cy="38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Separato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6844680" y="2226600"/>
                  <a:ext cx="1833120" cy="38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4" name=""/>
              <p:cNvGrpSpPr/>
              <p:nvPr/>
            </p:nvGrpSpPr>
            <p:grpSpPr>
              <a:xfrm>
                <a:off x="235080" y="2610720"/>
                <a:ext cx="1579680" cy="383760"/>
                <a:chOff x="235080" y="2610720"/>
                <a:chExt cx="1579680" cy="383760"/>
              </a:xfrm>
            </p:grpSpPr>
            <p:sp>
              <p:nvSpPr>
                <p:cNvPr id="165" name=""/>
                <p:cNvSpPr/>
                <p:nvPr/>
              </p:nvSpPr>
              <p:spPr>
                <a:xfrm>
                  <a:off x="329760" y="2610720"/>
                  <a:ext cx="1389960" cy="38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200" spc="-1" strike="noStrike">
                      <a:solidFill>
                        <a:srgbClr val="000000"/>
                      </a:solidFill>
                      <a:latin typeface="Times New Roman"/>
                    </a:rPr>
                    <a:t>线宽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235080" y="2610720"/>
                  <a:ext cx="1579680" cy="38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7" name=""/>
              <p:cNvGrpSpPr/>
              <p:nvPr/>
            </p:nvGrpSpPr>
            <p:grpSpPr>
              <a:xfrm>
                <a:off x="1815120" y="2610720"/>
                <a:ext cx="3177720" cy="383760"/>
                <a:chOff x="1815120" y="2610720"/>
                <a:chExt cx="3177720" cy="38376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1909440" y="2610720"/>
                  <a:ext cx="2988360" cy="38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2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1815120" y="2610720"/>
                  <a:ext cx="3177720" cy="38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0" name=""/>
              <p:cNvGrpSpPr/>
              <p:nvPr/>
            </p:nvGrpSpPr>
            <p:grpSpPr>
              <a:xfrm>
                <a:off x="4993200" y="2610720"/>
                <a:ext cx="1850760" cy="383760"/>
                <a:chOff x="4993200" y="2610720"/>
                <a:chExt cx="1850760" cy="383760"/>
              </a:xfrm>
            </p:grpSpPr>
            <p:sp>
              <p:nvSpPr>
                <p:cNvPr id="171" name=""/>
                <p:cNvSpPr/>
                <p:nvPr/>
              </p:nvSpPr>
              <p:spPr>
                <a:xfrm>
                  <a:off x="5087520" y="2610720"/>
                  <a:ext cx="1661400" cy="38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200" spc="-1" strike="noStrike">
                      <a:solidFill>
                        <a:srgbClr val="000000"/>
                      </a:solidFill>
                      <a:latin typeface="Times New Roman"/>
                    </a:rPr>
                    <a:t>线宽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4993200" y="2610720"/>
                  <a:ext cx="1850760" cy="38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3" name=""/>
              <p:cNvGrpSpPr/>
              <p:nvPr/>
            </p:nvGrpSpPr>
            <p:grpSpPr>
              <a:xfrm>
                <a:off x="6844680" y="2610720"/>
                <a:ext cx="1833120" cy="383760"/>
                <a:chOff x="6844680" y="2610720"/>
                <a:chExt cx="1833120" cy="383760"/>
              </a:xfrm>
            </p:grpSpPr>
            <p:sp>
              <p:nvSpPr>
                <p:cNvPr id="174" name=""/>
                <p:cNvSpPr/>
                <p:nvPr/>
              </p:nvSpPr>
              <p:spPr>
                <a:xfrm>
                  <a:off x="6939000" y="2610720"/>
                  <a:ext cx="1643760" cy="38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Pop-up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6844680" y="2610720"/>
                  <a:ext cx="1833120" cy="38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6" name=""/>
              <p:cNvGrpSpPr/>
              <p:nvPr/>
            </p:nvGrpSpPr>
            <p:grpSpPr>
              <a:xfrm>
                <a:off x="235080" y="2994480"/>
                <a:ext cx="1579680" cy="493200"/>
                <a:chOff x="235080" y="2994480"/>
                <a:chExt cx="1579680" cy="493200"/>
              </a:xfrm>
            </p:grpSpPr>
            <p:sp>
              <p:nvSpPr>
                <p:cNvPr id="177" name=""/>
                <p:cNvSpPr/>
                <p:nvPr/>
              </p:nvSpPr>
              <p:spPr>
                <a:xfrm>
                  <a:off x="329760" y="2994480"/>
                  <a:ext cx="1389960" cy="49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200" spc="-1" strike="noStrike">
                      <a:solidFill>
                        <a:srgbClr val="000000"/>
                      </a:solidFill>
                      <a:latin typeface="Times New Roman"/>
                    </a:rPr>
                    <a:t>线色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235080" y="2994480"/>
                  <a:ext cx="1579680" cy="49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9" name=""/>
              <p:cNvGrpSpPr/>
              <p:nvPr/>
            </p:nvGrpSpPr>
            <p:grpSpPr>
              <a:xfrm>
                <a:off x="1815120" y="2994480"/>
                <a:ext cx="3177720" cy="493200"/>
                <a:chOff x="1815120" y="2994480"/>
                <a:chExt cx="3177720" cy="493200"/>
              </a:xfrm>
            </p:grpSpPr>
            <p:sp>
              <p:nvSpPr>
                <p:cNvPr id="180" name=""/>
                <p:cNvSpPr/>
                <p:nvPr/>
              </p:nvSpPr>
              <p:spPr>
                <a:xfrm>
                  <a:off x="1909440" y="2994480"/>
                  <a:ext cx="2988360" cy="49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ID_DRAW_LINECOLO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1815120" y="2994480"/>
                  <a:ext cx="3177720" cy="49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2" name=""/>
              <p:cNvGrpSpPr/>
              <p:nvPr/>
            </p:nvGrpSpPr>
            <p:grpSpPr>
              <a:xfrm>
                <a:off x="4993200" y="2994480"/>
                <a:ext cx="1850760" cy="493200"/>
                <a:chOff x="4993200" y="2994480"/>
                <a:chExt cx="1850760" cy="49320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5087520" y="2994480"/>
                  <a:ext cx="1661400" cy="49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200" spc="-1" strike="noStrike">
                      <a:solidFill>
                        <a:srgbClr val="000000"/>
                      </a:solidFill>
                      <a:latin typeface="Times New Roman"/>
                    </a:rPr>
                    <a:t>线色（</a:t>
                  </a:r>
                  <a:r>
                    <a:rPr b="0" lang="zh-CN" sz="1200" spc="-1" strike="noStrike">
                      <a:solidFill>
                        <a:srgbClr val="000000"/>
                      </a:solidFill>
                      <a:latin typeface="Times New Roman"/>
                    </a:rPr>
                    <a:t>&amp;C</a:t>
                  </a:r>
                  <a:r>
                    <a:rPr b="0" lang="zh-CN" sz="1200" spc="-1" strike="noStrike">
                      <a:solidFill>
                        <a:srgbClr val="000000"/>
                      </a:solidFill>
                      <a:latin typeface="Times New Roman"/>
                    </a:rPr>
                    <a:t>）</a:t>
                  </a:r>
                  <a:r>
                    <a:rPr b="0" lang="zh-CN" sz="1200" spc="-1" strike="noStrike">
                      <a:solidFill>
                        <a:srgbClr val="000000"/>
                      </a:solidFill>
                      <a:latin typeface="Times New Roman"/>
                    </a:rPr>
                    <a:t>..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4993200" y="2994480"/>
                  <a:ext cx="1850760" cy="49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6844680" y="2994480"/>
                <a:ext cx="1833120" cy="493200"/>
                <a:chOff x="6844680" y="2994480"/>
                <a:chExt cx="1833120" cy="49320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6939000" y="2994480"/>
                  <a:ext cx="1643760" cy="49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6844680" y="2994480"/>
                  <a:ext cx="1833120" cy="49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8" name=""/>
              <p:cNvGrpSpPr/>
              <p:nvPr/>
            </p:nvGrpSpPr>
            <p:grpSpPr>
              <a:xfrm>
                <a:off x="235080" y="3487680"/>
                <a:ext cx="1579680" cy="493200"/>
                <a:chOff x="235080" y="3487680"/>
                <a:chExt cx="1579680" cy="49320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329760" y="3487680"/>
                  <a:ext cx="1389960" cy="49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200" spc="-1" strike="noStrike">
                      <a:solidFill>
                        <a:srgbClr val="000000"/>
                      </a:solidFill>
                      <a:latin typeface="Times New Roman"/>
                    </a:rPr>
                    <a:t>填充色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35080" y="3487680"/>
                  <a:ext cx="1579680" cy="49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1" name=""/>
              <p:cNvGrpSpPr/>
              <p:nvPr/>
            </p:nvGrpSpPr>
            <p:grpSpPr>
              <a:xfrm>
                <a:off x="1815120" y="3487680"/>
                <a:ext cx="3177720" cy="493200"/>
                <a:chOff x="1815120" y="3487680"/>
                <a:chExt cx="3177720" cy="493200"/>
              </a:xfrm>
            </p:grpSpPr>
            <p:sp>
              <p:nvSpPr>
                <p:cNvPr id="192" name=""/>
                <p:cNvSpPr/>
                <p:nvPr/>
              </p:nvSpPr>
              <p:spPr>
                <a:xfrm>
                  <a:off x="1909440" y="3487680"/>
                  <a:ext cx="2988360" cy="49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ID_DRAW_FILLCOLO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1815120" y="3487680"/>
                  <a:ext cx="3177720" cy="49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4" name=""/>
              <p:cNvGrpSpPr/>
              <p:nvPr/>
            </p:nvGrpSpPr>
            <p:grpSpPr>
              <a:xfrm>
                <a:off x="4993200" y="3487680"/>
                <a:ext cx="1850760" cy="493200"/>
                <a:chOff x="4993200" y="3487680"/>
                <a:chExt cx="1850760" cy="49320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5087520" y="3487680"/>
                  <a:ext cx="1661400" cy="49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200" spc="-1" strike="noStrike">
                      <a:solidFill>
                        <a:srgbClr val="000000"/>
                      </a:solidFill>
                      <a:latin typeface="Times New Roman"/>
                    </a:rPr>
                    <a:t>填充色（</a:t>
                  </a:r>
                  <a:r>
                    <a:rPr b="0" lang="zh-CN" sz="1200" spc="-1" strike="noStrike">
                      <a:solidFill>
                        <a:srgbClr val="000000"/>
                      </a:solidFill>
                      <a:latin typeface="Times New Roman"/>
                    </a:rPr>
                    <a:t>&amp;O</a:t>
                  </a:r>
                  <a:r>
                    <a:rPr b="0" lang="zh-CN" sz="1200" spc="-1" strike="noStrike">
                      <a:solidFill>
                        <a:srgbClr val="000000"/>
                      </a:solidFill>
                      <a:latin typeface="Times New Roman"/>
                    </a:rPr>
                    <a:t>）</a:t>
                  </a:r>
                  <a:r>
                    <a:rPr b="0" lang="zh-CN" sz="1200" spc="-1" strike="noStrike">
                      <a:solidFill>
                        <a:srgbClr val="000000"/>
                      </a:solidFill>
                      <a:latin typeface="Times New Roman"/>
                    </a:rPr>
                    <a:t>..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4993200" y="3487680"/>
                  <a:ext cx="1850760" cy="49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7" name=""/>
              <p:cNvGrpSpPr/>
              <p:nvPr/>
            </p:nvGrpSpPr>
            <p:grpSpPr>
              <a:xfrm>
                <a:off x="6844680" y="3487680"/>
                <a:ext cx="1833120" cy="493200"/>
                <a:chOff x="6844680" y="3487680"/>
                <a:chExt cx="1833120" cy="493200"/>
              </a:xfrm>
            </p:grpSpPr>
            <p:sp>
              <p:nvSpPr>
                <p:cNvPr id="198" name=""/>
                <p:cNvSpPr/>
                <p:nvPr/>
              </p:nvSpPr>
              <p:spPr>
                <a:xfrm>
                  <a:off x="6939000" y="3487680"/>
                  <a:ext cx="1643760" cy="49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2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6844680" y="3487680"/>
                  <a:ext cx="1833120" cy="49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0" name=""/>
              <p:cNvGrpSpPr/>
              <p:nvPr/>
            </p:nvGrpSpPr>
            <p:grpSpPr>
              <a:xfrm>
                <a:off x="235080" y="3981240"/>
                <a:ext cx="1579680" cy="493560"/>
                <a:chOff x="235080" y="3981240"/>
                <a:chExt cx="1579680" cy="49356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329760" y="3981240"/>
                  <a:ext cx="1389960" cy="493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2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235080" y="3981240"/>
                  <a:ext cx="1579680" cy="493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3" name=""/>
              <p:cNvGrpSpPr/>
              <p:nvPr/>
            </p:nvGrpSpPr>
            <p:grpSpPr>
              <a:xfrm>
                <a:off x="1815120" y="3981240"/>
                <a:ext cx="3177720" cy="493560"/>
                <a:chOff x="1815120" y="3981240"/>
                <a:chExt cx="3177720" cy="493560"/>
              </a:xfrm>
            </p:grpSpPr>
            <p:sp>
              <p:nvSpPr>
                <p:cNvPr id="204" name=""/>
                <p:cNvSpPr/>
                <p:nvPr/>
              </p:nvSpPr>
              <p:spPr>
                <a:xfrm>
                  <a:off x="1909440" y="3981240"/>
                  <a:ext cx="2988360" cy="493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_DRAW_LINEWIDTH_ON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1815120" y="3981240"/>
                  <a:ext cx="3177720" cy="493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6" name=""/>
              <p:cNvGrpSpPr/>
              <p:nvPr/>
            </p:nvGrpSpPr>
            <p:grpSpPr>
              <a:xfrm>
                <a:off x="4993200" y="3981240"/>
                <a:ext cx="1850760" cy="493560"/>
                <a:chOff x="4993200" y="3981240"/>
                <a:chExt cx="1850760" cy="493560"/>
              </a:xfrm>
            </p:grpSpPr>
            <p:sp>
              <p:nvSpPr>
                <p:cNvPr id="207" name=""/>
                <p:cNvSpPr/>
                <p:nvPr/>
              </p:nvSpPr>
              <p:spPr>
                <a:xfrm>
                  <a:off x="5087520" y="3981240"/>
                  <a:ext cx="1661400" cy="493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2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4993200" y="3981240"/>
                  <a:ext cx="1850760" cy="493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9" name=""/>
              <p:cNvGrpSpPr/>
              <p:nvPr/>
            </p:nvGrpSpPr>
            <p:grpSpPr>
              <a:xfrm>
                <a:off x="6844680" y="3981240"/>
                <a:ext cx="1833120" cy="493560"/>
                <a:chOff x="6844680" y="3981240"/>
                <a:chExt cx="1833120" cy="493560"/>
              </a:xfrm>
            </p:grpSpPr>
            <p:sp>
              <p:nvSpPr>
                <p:cNvPr id="210" name=""/>
                <p:cNvSpPr/>
                <p:nvPr/>
              </p:nvSpPr>
              <p:spPr>
                <a:xfrm>
                  <a:off x="6939000" y="3981240"/>
                  <a:ext cx="1643760" cy="493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2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6844680" y="3981240"/>
                  <a:ext cx="1833120" cy="493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2" name=""/>
              <p:cNvGrpSpPr/>
              <p:nvPr/>
            </p:nvGrpSpPr>
            <p:grpSpPr>
              <a:xfrm>
                <a:off x="235080" y="4474800"/>
                <a:ext cx="1579680" cy="493200"/>
                <a:chOff x="235080" y="4474800"/>
                <a:chExt cx="1579680" cy="493200"/>
              </a:xfrm>
            </p:grpSpPr>
            <p:sp>
              <p:nvSpPr>
                <p:cNvPr id="213" name=""/>
                <p:cNvSpPr/>
                <p:nvPr/>
              </p:nvSpPr>
              <p:spPr>
                <a:xfrm>
                  <a:off x="329760" y="4474800"/>
                  <a:ext cx="1389960" cy="49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2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235080" y="4474800"/>
                  <a:ext cx="1579680" cy="49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5" name=""/>
              <p:cNvGrpSpPr/>
              <p:nvPr/>
            </p:nvGrpSpPr>
            <p:grpSpPr>
              <a:xfrm>
                <a:off x="1815120" y="4474800"/>
                <a:ext cx="3177720" cy="493200"/>
                <a:chOff x="1815120" y="4474800"/>
                <a:chExt cx="3177720" cy="49320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1909440" y="4474800"/>
                  <a:ext cx="2988360" cy="49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ID_DRAW_LINEWIDTH_TW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1815120" y="4474800"/>
                  <a:ext cx="3177720" cy="49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8" name=""/>
              <p:cNvGrpSpPr/>
              <p:nvPr/>
            </p:nvGrpSpPr>
            <p:grpSpPr>
              <a:xfrm>
                <a:off x="4993200" y="4474800"/>
                <a:ext cx="1850760" cy="493200"/>
                <a:chOff x="4993200" y="4474800"/>
                <a:chExt cx="1850760" cy="493200"/>
              </a:xfrm>
            </p:grpSpPr>
            <p:sp>
              <p:nvSpPr>
                <p:cNvPr id="219" name=""/>
                <p:cNvSpPr/>
                <p:nvPr/>
              </p:nvSpPr>
              <p:spPr>
                <a:xfrm>
                  <a:off x="5087520" y="4474800"/>
                  <a:ext cx="1661400" cy="49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2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4993200" y="4474800"/>
                  <a:ext cx="1850760" cy="49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1" name=""/>
              <p:cNvGrpSpPr/>
              <p:nvPr/>
            </p:nvGrpSpPr>
            <p:grpSpPr>
              <a:xfrm>
                <a:off x="6844680" y="4474800"/>
                <a:ext cx="1833120" cy="493200"/>
                <a:chOff x="6844680" y="4474800"/>
                <a:chExt cx="1833120" cy="493200"/>
              </a:xfrm>
            </p:grpSpPr>
            <p:sp>
              <p:nvSpPr>
                <p:cNvPr id="222" name=""/>
                <p:cNvSpPr/>
                <p:nvPr/>
              </p:nvSpPr>
              <p:spPr>
                <a:xfrm>
                  <a:off x="6939000" y="4474800"/>
                  <a:ext cx="1643760" cy="49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2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6844680" y="4474800"/>
                  <a:ext cx="1833120" cy="49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4" name=""/>
              <p:cNvGrpSpPr/>
              <p:nvPr/>
            </p:nvGrpSpPr>
            <p:grpSpPr>
              <a:xfrm>
                <a:off x="235080" y="4968000"/>
                <a:ext cx="1579680" cy="493200"/>
                <a:chOff x="235080" y="4968000"/>
                <a:chExt cx="1579680" cy="49320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329760" y="4968000"/>
                  <a:ext cx="1389960" cy="49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200" spc="-1" strike="noStrike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235080" y="4968000"/>
                  <a:ext cx="1579680" cy="49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7" name=""/>
              <p:cNvGrpSpPr/>
              <p:nvPr/>
            </p:nvGrpSpPr>
            <p:grpSpPr>
              <a:xfrm>
                <a:off x="1815120" y="4968000"/>
                <a:ext cx="3177720" cy="493200"/>
                <a:chOff x="1815120" y="4968000"/>
                <a:chExt cx="3177720" cy="493200"/>
              </a:xfrm>
            </p:grpSpPr>
            <p:sp>
              <p:nvSpPr>
                <p:cNvPr id="228" name=""/>
                <p:cNvSpPr/>
                <p:nvPr/>
              </p:nvSpPr>
              <p:spPr>
                <a:xfrm>
                  <a:off x="1909440" y="4968000"/>
                  <a:ext cx="2988360" cy="49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ID_DRAW_LINEWIDTH_THRE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1815120" y="4968000"/>
                  <a:ext cx="3177720" cy="49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0" name=""/>
              <p:cNvGrpSpPr/>
              <p:nvPr/>
            </p:nvGrpSpPr>
            <p:grpSpPr>
              <a:xfrm>
                <a:off x="4993200" y="4968000"/>
                <a:ext cx="1850760" cy="493200"/>
                <a:chOff x="4993200" y="4968000"/>
                <a:chExt cx="1850760" cy="49320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5087520" y="4968000"/>
                  <a:ext cx="1661400" cy="49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200" spc="-1" strike="noStrike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4993200" y="4968000"/>
                  <a:ext cx="1850760" cy="49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3" name=""/>
              <p:cNvGrpSpPr/>
              <p:nvPr/>
            </p:nvGrpSpPr>
            <p:grpSpPr>
              <a:xfrm>
                <a:off x="6844680" y="4968000"/>
                <a:ext cx="1833120" cy="493200"/>
                <a:chOff x="6844680" y="4968000"/>
                <a:chExt cx="1833120" cy="493200"/>
              </a:xfrm>
            </p:grpSpPr>
            <p:sp>
              <p:nvSpPr>
                <p:cNvPr id="234" name=""/>
                <p:cNvSpPr/>
                <p:nvPr/>
              </p:nvSpPr>
              <p:spPr>
                <a:xfrm>
                  <a:off x="6939000" y="4968000"/>
                  <a:ext cx="1643760" cy="49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2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6844680" y="4968000"/>
                  <a:ext cx="1833120" cy="49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6" name=""/>
              <p:cNvGrpSpPr/>
              <p:nvPr/>
            </p:nvGrpSpPr>
            <p:grpSpPr>
              <a:xfrm>
                <a:off x="235080" y="5461560"/>
                <a:ext cx="1579680" cy="493200"/>
                <a:chOff x="235080" y="5461560"/>
                <a:chExt cx="1579680" cy="493200"/>
              </a:xfrm>
            </p:grpSpPr>
            <p:sp>
              <p:nvSpPr>
                <p:cNvPr id="237" name=""/>
                <p:cNvSpPr/>
                <p:nvPr/>
              </p:nvSpPr>
              <p:spPr>
                <a:xfrm>
                  <a:off x="329760" y="5461560"/>
                  <a:ext cx="1389960" cy="49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200" spc="-1" strike="noStrike">
                      <a:solidFill>
                        <a:srgbClr val="000000"/>
                      </a:solidFill>
                      <a:latin typeface="Times New Roman"/>
                    </a:rPr>
                    <a:t>4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235080" y="5461560"/>
                  <a:ext cx="1579680" cy="49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9" name=""/>
              <p:cNvGrpSpPr/>
              <p:nvPr/>
            </p:nvGrpSpPr>
            <p:grpSpPr>
              <a:xfrm>
                <a:off x="1815120" y="5461560"/>
                <a:ext cx="3177720" cy="493200"/>
                <a:chOff x="1815120" y="5461560"/>
                <a:chExt cx="3177720" cy="493200"/>
              </a:xfrm>
            </p:grpSpPr>
            <p:sp>
              <p:nvSpPr>
                <p:cNvPr id="240" name=""/>
                <p:cNvSpPr/>
                <p:nvPr/>
              </p:nvSpPr>
              <p:spPr>
                <a:xfrm>
                  <a:off x="1909440" y="5461560"/>
                  <a:ext cx="2988360" cy="49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ID_DRAW_LINEWIDTH_FOU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1815120" y="5461560"/>
                  <a:ext cx="3177720" cy="49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2" name=""/>
              <p:cNvGrpSpPr/>
              <p:nvPr/>
            </p:nvGrpSpPr>
            <p:grpSpPr>
              <a:xfrm>
                <a:off x="4993200" y="5461560"/>
                <a:ext cx="1850760" cy="493200"/>
                <a:chOff x="4993200" y="5461560"/>
                <a:chExt cx="1850760" cy="493200"/>
              </a:xfrm>
            </p:grpSpPr>
            <p:sp>
              <p:nvSpPr>
                <p:cNvPr id="243" name=""/>
                <p:cNvSpPr/>
                <p:nvPr/>
              </p:nvSpPr>
              <p:spPr>
                <a:xfrm>
                  <a:off x="5087520" y="5461560"/>
                  <a:ext cx="1661400" cy="49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200" spc="-1" strike="noStrike">
                      <a:solidFill>
                        <a:srgbClr val="000000"/>
                      </a:solidFill>
                      <a:latin typeface="Times New Roman"/>
                    </a:rPr>
                    <a:t>4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4993200" y="5461560"/>
                  <a:ext cx="1850760" cy="49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5" name=""/>
              <p:cNvGrpSpPr/>
              <p:nvPr/>
            </p:nvGrpSpPr>
            <p:grpSpPr>
              <a:xfrm>
                <a:off x="6844680" y="5461560"/>
                <a:ext cx="1833120" cy="493200"/>
                <a:chOff x="6844680" y="5461560"/>
                <a:chExt cx="1833120" cy="493200"/>
              </a:xfrm>
            </p:grpSpPr>
            <p:sp>
              <p:nvSpPr>
                <p:cNvPr id="246" name=""/>
                <p:cNvSpPr/>
                <p:nvPr/>
              </p:nvSpPr>
              <p:spPr>
                <a:xfrm>
                  <a:off x="6939000" y="5461560"/>
                  <a:ext cx="1643760" cy="49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2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6844680" y="5461560"/>
                  <a:ext cx="1833120" cy="49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8" name=""/>
              <p:cNvGrpSpPr/>
              <p:nvPr/>
            </p:nvGrpSpPr>
            <p:grpSpPr>
              <a:xfrm>
                <a:off x="235080" y="5954760"/>
                <a:ext cx="1579680" cy="493200"/>
                <a:chOff x="235080" y="5954760"/>
                <a:chExt cx="1579680" cy="493200"/>
              </a:xfrm>
            </p:grpSpPr>
            <p:sp>
              <p:nvSpPr>
                <p:cNvPr id="249" name=""/>
                <p:cNvSpPr/>
                <p:nvPr/>
              </p:nvSpPr>
              <p:spPr>
                <a:xfrm>
                  <a:off x="329760" y="5954760"/>
                  <a:ext cx="1389960" cy="49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200" spc="-1" strike="noStrike">
                      <a:solidFill>
                        <a:srgbClr val="000000"/>
                      </a:solidFill>
                      <a:latin typeface="Times New Roman"/>
                    </a:rPr>
                    <a:t>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235080" y="5954760"/>
                  <a:ext cx="1579680" cy="49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1" name=""/>
              <p:cNvGrpSpPr/>
              <p:nvPr/>
            </p:nvGrpSpPr>
            <p:grpSpPr>
              <a:xfrm>
                <a:off x="1815120" y="5954760"/>
                <a:ext cx="3177720" cy="493200"/>
                <a:chOff x="1815120" y="5954760"/>
                <a:chExt cx="3177720" cy="493200"/>
              </a:xfrm>
            </p:grpSpPr>
            <p:sp>
              <p:nvSpPr>
                <p:cNvPr id="252" name=""/>
                <p:cNvSpPr/>
                <p:nvPr/>
              </p:nvSpPr>
              <p:spPr>
                <a:xfrm>
                  <a:off x="1909440" y="5954760"/>
                  <a:ext cx="2988360" cy="49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ID_DRAW_LINEWIDTH_FIV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1815120" y="5954760"/>
                  <a:ext cx="3177720" cy="49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4" name=""/>
              <p:cNvGrpSpPr/>
              <p:nvPr/>
            </p:nvGrpSpPr>
            <p:grpSpPr>
              <a:xfrm>
                <a:off x="4993200" y="5954760"/>
                <a:ext cx="1850760" cy="493200"/>
                <a:chOff x="4993200" y="5954760"/>
                <a:chExt cx="1850760" cy="493200"/>
              </a:xfrm>
            </p:grpSpPr>
            <p:sp>
              <p:nvSpPr>
                <p:cNvPr id="255" name=""/>
                <p:cNvSpPr/>
                <p:nvPr/>
              </p:nvSpPr>
              <p:spPr>
                <a:xfrm>
                  <a:off x="5087520" y="5954760"/>
                  <a:ext cx="1661400" cy="49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200" spc="-1" strike="noStrike">
                      <a:solidFill>
                        <a:srgbClr val="000000"/>
                      </a:solidFill>
                      <a:latin typeface="Times New Roman"/>
                    </a:rPr>
                    <a:t>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4993200" y="5954760"/>
                  <a:ext cx="1850760" cy="49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7" name=""/>
              <p:cNvGrpSpPr/>
              <p:nvPr/>
            </p:nvGrpSpPr>
            <p:grpSpPr>
              <a:xfrm>
                <a:off x="6844680" y="5954760"/>
                <a:ext cx="1833120" cy="493200"/>
                <a:chOff x="6844680" y="5954760"/>
                <a:chExt cx="1833120" cy="49320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6939000" y="5954760"/>
                  <a:ext cx="1643760" cy="49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2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844680" y="5954760"/>
                  <a:ext cx="1833120" cy="49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0" name=""/>
            <p:cNvSpPr/>
            <p:nvPr/>
          </p:nvSpPr>
          <p:spPr>
            <a:xfrm>
              <a:off x="228600" y="304920"/>
              <a:ext cx="8456400" cy="614664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zoom dir="out"/>
    <p:sndAc>
      <p:stSnd>
        <p:snd r:embed="rId1" name="projctor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5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990880" y="2719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3" name=""/>
          <p:cNvGraphicFramePr/>
          <p:nvPr/>
        </p:nvGraphicFramePr>
        <p:xfrm>
          <a:off x="990720" y="533520"/>
          <a:ext cx="3162240" cy="1419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533520"/>
                    <a:ext cx="3162240" cy="141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5" name=""/>
          <p:cNvSpPr/>
          <p:nvPr/>
        </p:nvSpPr>
        <p:spPr>
          <a:xfrm>
            <a:off x="4724280" y="609480"/>
            <a:ext cx="363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各按扭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号分别是“直线”、“矩形”、“椭圆”和“填充”菜单项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号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85800" y="2971800"/>
            <a:ext cx="466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填充光标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D_CURSOR_FIL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16216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8" name=""/>
          <p:cNvGraphicFramePr/>
          <p:nvPr/>
        </p:nvGraphicFramePr>
        <p:xfrm>
          <a:off x="914400" y="3724200"/>
          <a:ext cx="4819680" cy="2067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14400" y="3724200"/>
                    <a:ext cx="4819680" cy="206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  <p:sndAc>
      <p:stSnd>
        <p:snd r:embed="rId5" name="projctor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5.1   CD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CDC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类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19320" y="1905120"/>
            <a:ext cx="67816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学习目标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了解设备环境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evice Contex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简称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C)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和设备环境类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CD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利用设备环境类进行简单绘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5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>
            <a:hlinkClick r:id="rId1" action="ppaction://hlinksldjump"/>
          </p:cNvPr>
          <p:cNvSpPr/>
          <p:nvPr/>
        </p:nvSpPr>
        <p:spPr>
          <a:xfrm>
            <a:off x="7772400" y="6095880"/>
            <a:ext cx="10731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返回第5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3" name="projctor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/>
          </p:nvPr>
        </p:nvSpPr>
        <p:spPr>
          <a:xfrm>
            <a:off x="380520" y="22860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在视类中添加成员变量并初始化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-----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）添加成员变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5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80880" y="762120"/>
            <a:ext cx="6782040" cy="589392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class CDrawView : public C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{// Imple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1600" spc="-1" strike="noStrike">
                <a:solidFill>
                  <a:srgbClr val="ff0000"/>
                </a:solidFill>
                <a:latin typeface="Arial"/>
              </a:rPr>
              <a:t>int m_nMaxX;        // </a:t>
            </a:r>
            <a:r>
              <a:rPr b="1" lang="zh-CN" sz="1600" spc="-1" strike="noStrike">
                <a:solidFill>
                  <a:srgbClr val="ff0000"/>
                </a:solidFill>
                <a:latin typeface="Times New Roman"/>
              </a:rPr>
              <a:t>用于保存屏幕尺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zh-CN" sz="1600" spc="-1" strike="noStrike">
                <a:solidFill>
                  <a:srgbClr val="ff0000"/>
                </a:solidFill>
                <a:latin typeface="Arial"/>
              </a:rPr>
              <a:t>int m_nMax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zh-CN" sz="1600" spc="-1" strike="noStrike">
                <a:solidFill>
                  <a:srgbClr val="ff0000"/>
                </a:solidFill>
                <a:latin typeface="Arial"/>
              </a:rPr>
              <a:t>CDC * m_pMemDC;       //</a:t>
            </a:r>
            <a:r>
              <a:rPr b="1" lang="zh-CN" sz="1600" spc="-1" strike="noStrike">
                <a:solidFill>
                  <a:srgbClr val="ff0000"/>
                </a:solidFill>
                <a:latin typeface="Times New Roman"/>
              </a:rPr>
              <a:t>内存</a:t>
            </a:r>
            <a:r>
              <a:rPr b="1" lang="zh-CN" sz="1600" spc="-1" strike="noStrike">
                <a:solidFill>
                  <a:srgbClr val="ff0000"/>
                </a:solidFill>
                <a:latin typeface="Arial"/>
              </a:rPr>
              <a:t>D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zh-CN" sz="1600" spc="-1" strike="noStrike">
                <a:solidFill>
                  <a:srgbClr val="ff0000"/>
                </a:solidFill>
                <a:latin typeface="Arial"/>
              </a:rPr>
              <a:t>CBitmap * m_pBitmap;   // </a:t>
            </a:r>
            <a:r>
              <a:rPr b="1" lang="zh-CN" sz="1600" spc="-1" strike="noStrike">
                <a:solidFill>
                  <a:srgbClr val="ff0000"/>
                </a:solidFill>
                <a:latin typeface="Times New Roman"/>
              </a:rPr>
              <a:t>与显示</a:t>
            </a:r>
            <a:r>
              <a:rPr b="1" lang="zh-CN" sz="1600" spc="-1" strike="noStrike">
                <a:solidFill>
                  <a:srgbClr val="ff0000"/>
                </a:solidFill>
                <a:latin typeface="Arial"/>
              </a:rPr>
              <a:t>DC</a:t>
            </a:r>
            <a:r>
              <a:rPr b="1" lang="zh-CN" sz="1600" spc="-1" strike="noStrike">
                <a:solidFill>
                  <a:srgbClr val="ff0000"/>
                </a:solidFill>
                <a:latin typeface="Times New Roman"/>
              </a:rPr>
              <a:t>的位图兼容的位图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zh-CN" sz="1600" spc="-1" strike="noStrike">
                <a:solidFill>
                  <a:srgbClr val="ff0000"/>
                </a:solidFill>
                <a:latin typeface="Arial"/>
              </a:rPr>
              <a:t>int m_nDrawType;           //</a:t>
            </a:r>
            <a:r>
              <a:rPr b="1" lang="zh-CN" sz="1600" spc="-1" strike="noStrike">
                <a:solidFill>
                  <a:srgbClr val="ff0000"/>
                </a:solidFill>
                <a:latin typeface="Times New Roman"/>
              </a:rPr>
              <a:t>画图类型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zh-CN" sz="1600" spc="-1" strike="noStrike">
                <a:solidFill>
                  <a:srgbClr val="ff0000"/>
                </a:solidFill>
                <a:latin typeface="Arial"/>
              </a:rPr>
              <a:t>int m_nLineWidth;           //</a:t>
            </a:r>
            <a:r>
              <a:rPr b="1" lang="zh-CN" sz="1600" spc="-1" strike="noStrike">
                <a:solidFill>
                  <a:srgbClr val="ff0000"/>
                </a:solidFill>
                <a:latin typeface="Times New Roman"/>
              </a:rPr>
              <a:t>线宽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zh-CN" sz="1600" spc="-1" strike="noStrike">
                <a:solidFill>
                  <a:srgbClr val="ff0000"/>
                </a:solidFill>
                <a:latin typeface="Arial"/>
              </a:rPr>
              <a:t>COLORREF m_cLineColor;      //</a:t>
            </a:r>
            <a:r>
              <a:rPr b="1" lang="zh-CN" sz="1600" spc="-1" strike="noStrike">
                <a:solidFill>
                  <a:srgbClr val="ff0000"/>
                </a:solidFill>
                <a:latin typeface="Times New Roman"/>
              </a:rPr>
              <a:t>线的颜色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zh-CN" sz="1600" spc="-1" strike="noStrike">
                <a:solidFill>
                  <a:srgbClr val="ff0000"/>
                </a:solidFill>
                <a:latin typeface="Arial"/>
              </a:rPr>
              <a:t>COLORREF m_cFillColor;        //</a:t>
            </a:r>
            <a:r>
              <a:rPr b="1" lang="zh-CN" sz="1600" spc="-1" strike="noStrike">
                <a:solidFill>
                  <a:srgbClr val="ff0000"/>
                </a:solidFill>
                <a:latin typeface="Times New Roman"/>
              </a:rPr>
              <a:t>填充颜色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zh-CN" sz="1600" spc="-1" strike="noStrike">
                <a:solidFill>
                  <a:srgbClr val="ff0000"/>
                </a:solidFill>
                <a:latin typeface="Arial"/>
              </a:rPr>
              <a:t>bool m_bDrawing;                      //</a:t>
            </a:r>
            <a:r>
              <a:rPr b="1" lang="zh-CN" sz="1600" spc="-1" strike="noStrike">
                <a:solidFill>
                  <a:srgbClr val="ff0000"/>
                </a:solidFill>
                <a:latin typeface="Times New Roman"/>
              </a:rPr>
              <a:t>是否正在画图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zh-CN" sz="1600" spc="-1" strike="noStrike">
                <a:solidFill>
                  <a:srgbClr val="ff0000"/>
                </a:solidFill>
                <a:latin typeface="Arial"/>
              </a:rPr>
              <a:t>CPoint m_ptStart;                       //</a:t>
            </a:r>
            <a:r>
              <a:rPr b="1" lang="zh-CN" sz="1600" spc="-1" strike="noStrike">
                <a:solidFill>
                  <a:srgbClr val="ff0000"/>
                </a:solidFill>
                <a:latin typeface="Times New Roman"/>
              </a:rPr>
              <a:t>画图的起始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zh-CN" sz="1600" spc="-1" strike="noStrike">
                <a:solidFill>
                  <a:srgbClr val="ff0000"/>
                </a:solidFill>
                <a:latin typeface="Arial"/>
              </a:rPr>
              <a:t>CPoint m_ptOld;                        //</a:t>
            </a:r>
            <a:r>
              <a:rPr b="1" lang="zh-CN" sz="1600" spc="-1" strike="noStrike">
                <a:solidFill>
                  <a:srgbClr val="ff0000"/>
                </a:solidFill>
                <a:latin typeface="Times New Roman"/>
              </a:rPr>
              <a:t>保存鼠标临时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virtual ~CDrawView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/>
          </p:nvPr>
        </p:nvSpPr>
        <p:spPr>
          <a:xfrm>
            <a:off x="380520" y="22860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．在视类中添加成员变量并初始化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）在构造函数中初始化部分成员变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5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80880" y="1930320"/>
            <a:ext cx="8001000" cy="404172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CDrawView::CDrawView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// TODO: add construction code 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1600" spc="-1" strike="noStrike">
                <a:solidFill>
                  <a:srgbClr val="ff0000"/>
                </a:solidFill>
                <a:latin typeface="Arial"/>
              </a:rPr>
              <a:t>m_pMemDC = new CDC;       //</a:t>
            </a:r>
            <a:r>
              <a:rPr b="1" lang="zh-CN" sz="1600" spc="-1" strike="noStrike">
                <a:solidFill>
                  <a:srgbClr val="ff0000"/>
                </a:solidFill>
                <a:latin typeface="Times New Roman"/>
              </a:rPr>
              <a:t>构造内存</a:t>
            </a:r>
            <a:r>
              <a:rPr b="1" lang="zh-CN" sz="1600" spc="-1" strike="noStrike">
                <a:solidFill>
                  <a:srgbClr val="ff0000"/>
                </a:solidFill>
                <a:latin typeface="Arial"/>
              </a:rPr>
              <a:t>DC</a:t>
            </a:r>
            <a:r>
              <a:rPr b="1" lang="zh-CN" sz="1600" spc="-1" strike="noStrike">
                <a:solidFill>
                  <a:srgbClr val="ff0000"/>
                </a:solidFill>
                <a:latin typeface="Times New Roman"/>
              </a:rPr>
              <a:t>对象</a:t>
            </a:r>
            <a:r>
              <a:rPr b="1" lang="zh-CN" sz="1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zh-CN" sz="1600" spc="-1" strike="noStrike">
                <a:solidFill>
                  <a:srgbClr val="ff0000"/>
                </a:solidFill>
                <a:latin typeface="Arial"/>
              </a:rPr>
              <a:t>m_pBitmap = new CBitmap;      // </a:t>
            </a:r>
            <a:r>
              <a:rPr b="1" lang="zh-CN" sz="1600" spc="-1" strike="noStrike">
                <a:solidFill>
                  <a:srgbClr val="ff0000"/>
                </a:solidFill>
                <a:latin typeface="Times New Roman"/>
              </a:rPr>
              <a:t>构造位图对象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zh-CN" sz="1600" spc="-1" strike="noStrike">
                <a:solidFill>
                  <a:srgbClr val="ff0000"/>
                </a:solidFill>
                <a:latin typeface="Arial"/>
              </a:rPr>
              <a:t>m_nDrawType = -1;     //</a:t>
            </a:r>
            <a:r>
              <a:rPr b="1" lang="zh-CN" sz="1600" spc="-1" strike="noStrike">
                <a:solidFill>
                  <a:srgbClr val="ff0000"/>
                </a:solidFill>
                <a:latin typeface="Times New Roman"/>
              </a:rPr>
              <a:t>程序启动时没有选中绘图类型，不处于绘图状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zh-CN" sz="1600" spc="-1" strike="noStrike">
                <a:solidFill>
                  <a:srgbClr val="ff0000"/>
                </a:solidFill>
                <a:latin typeface="Arial"/>
              </a:rPr>
              <a:t>m_nLineWidth = 1;       //</a:t>
            </a:r>
            <a:r>
              <a:rPr b="1" lang="zh-CN" sz="1600" spc="-1" strike="noStrike">
                <a:solidFill>
                  <a:srgbClr val="ff0000"/>
                </a:solidFill>
                <a:latin typeface="Times New Roman"/>
              </a:rPr>
              <a:t>线宽初始为</a:t>
            </a:r>
            <a:r>
              <a:rPr b="1" lang="zh-CN" sz="16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zh-CN" sz="1600" spc="-1" strike="noStrike">
                <a:solidFill>
                  <a:srgbClr val="ff0000"/>
                </a:solidFill>
                <a:latin typeface="Times New Roman"/>
              </a:rPr>
              <a:t>个像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zh-CN" sz="1600" spc="-1" strike="noStrike">
                <a:solidFill>
                  <a:srgbClr val="ff0000"/>
                </a:solidFill>
                <a:latin typeface="Arial"/>
              </a:rPr>
              <a:t>m_cLineColor = RGB(0,0,0);       //</a:t>
            </a:r>
            <a:r>
              <a:rPr b="1" lang="zh-CN" sz="1600" spc="-1" strike="noStrike">
                <a:solidFill>
                  <a:srgbClr val="ff0000"/>
                </a:solidFill>
                <a:latin typeface="Times New Roman"/>
              </a:rPr>
              <a:t>线的颜色初始为黑色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zh-CN" sz="1600" spc="-1" strike="noStrike">
                <a:solidFill>
                  <a:srgbClr val="ff0000"/>
                </a:solidFill>
                <a:latin typeface="Arial"/>
              </a:rPr>
              <a:t>m_cFillColor = RGB(0,0,255);     //</a:t>
            </a:r>
            <a:r>
              <a:rPr b="1" lang="zh-CN" sz="1600" spc="-1" strike="noStrike">
                <a:solidFill>
                  <a:srgbClr val="ff0000"/>
                </a:solidFill>
                <a:latin typeface="Times New Roman"/>
              </a:rPr>
              <a:t>填充色初始为蓝色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zh-CN" sz="1600" spc="-1" strike="noStrike">
                <a:solidFill>
                  <a:srgbClr val="ff0000"/>
                </a:solidFill>
                <a:latin typeface="Arial"/>
              </a:rPr>
              <a:t>m_bDrawing = false;     //</a:t>
            </a:r>
            <a:r>
              <a:rPr b="1" lang="zh-CN" sz="1600" spc="-1" strike="noStrike">
                <a:solidFill>
                  <a:srgbClr val="ff0000"/>
                </a:solidFill>
                <a:latin typeface="Times New Roman"/>
              </a:rPr>
              <a:t>程序启动时不处于画图状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/>
          </p:nvPr>
        </p:nvSpPr>
        <p:spPr>
          <a:xfrm>
            <a:off x="380520" y="228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．在视类中添加成员变量并初始化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）在析构造函数中释放指针变量占用的内存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5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80880" y="1930320"/>
            <a:ext cx="8001000" cy="181908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CDrawView::~CDrawView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zh-CN" sz="1600" spc="-1" strike="noStrike">
                <a:solidFill>
                  <a:srgbClr val="ff0000"/>
                </a:solidFill>
                <a:latin typeface="Arial"/>
              </a:rPr>
              <a:t>delete m_pMemDC;   //</a:t>
            </a:r>
            <a:r>
              <a:rPr b="1" lang="zh-CN" sz="1600" spc="-1" strike="noStrike">
                <a:solidFill>
                  <a:srgbClr val="ff0000"/>
                </a:solidFill>
                <a:latin typeface="Times New Roman"/>
              </a:rPr>
              <a:t>删除内存</a:t>
            </a:r>
            <a:r>
              <a:rPr b="1" lang="zh-CN" sz="1600" spc="-1" strike="noStrike">
                <a:solidFill>
                  <a:srgbClr val="ff0000"/>
                </a:solidFill>
                <a:latin typeface="Arial"/>
              </a:rPr>
              <a:t>DC</a:t>
            </a:r>
            <a:r>
              <a:rPr b="1" lang="zh-CN" sz="1600" spc="-1" strike="noStrike">
                <a:solidFill>
                  <a:srgbClr val="ff0000"/>
                </a:solidFill>
                <a:latin typeface="Times New Roman"/>
              </a:rPr>
              <a:t>对象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zh-CN" sz="1600" spc="-1" strike="noStrike">
                <a:solidFill>
                  <a:srgbClr val="ff0000"/>
                </a:solidFill>
                <a:latin typeface="Arial"/>
              </a:rPr>
              <a:t>delete m_pBitmap;     //</a:t>
            </a:r>
            <a:r>
              <a:rPr b="1" lang="zh-CN" sz="1600" spc="-1" strike="noStrike">
                <a:solidFill>
                  <a:srgbClr val="ff0000"/>
                </a:solidFill>
                <a:latin typeface="Times New Roman"/>
              </a:rPr>
              <a:t>删除位图对象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/>
          </p:nvPr>
        </p:nvSpPr>
        <p:spPr>
          <a:xfrm>
            <a:off x="380520" y="22824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．在视类中添加成员变量并初始化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4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）为视类添加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WM_CREATE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消息处理函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5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28600" y="990720"/>
            <a:ext cx="8763120" cy="885744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int CDrawView::OnCreate(LPCREATESTRUCT lpCreateStruct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if (CView::OnCreate(lpCreateStruct) == -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// TODO: Add your specialized creation code 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1600" spc="-1" strike="noStrike">
                <a:solidFill>
                  <a:srgbClr val="ff0000"/>
                </a:solidFill>
                <a:latin typeface="Arial"/>
              </a:rPr>
              <a:t>m_nMaxX = GetSystemMetrics(SM_CXSCREEN);  //</a:t>
            </a:r>
            <a:r>
              <a:rPr b="1" lang="zh-CN" sz="1600" spc="-1" strike="noStrike">
                <a:solidFill>
                  <a:srgbClr val="ff0000"/>
                </a:solidFill>
                <a:latin typeface="Times New Roman"/>
              </a:rPr>
              <a:t>得到屏幕宽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zh-CN" sz="1600" spc="-1" strike="noStrike">
                <a:solidFill>
                  <a:srgbClr val="ff0000"/>
                </a:solidFill>
                <a:latin typeface="Arial"/>
              </a:rPr>
              <a:t>m_nMaxY = GetSystemMetrics(SM_CYSCREEN);   //</a:t>
            </a:r>
            <a:r>
              <a:rPr b="1" lang="zh-CN" sz="1600" spc="-1" strike="noStrike">
                <a:solidFill>
                  <a:srgbClr val="ff0000"/>
                </a:solidFill>
                <a:latin typeface="Times New Roman"/>
              </a:rPr>
              <a:t>得到屏幕高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zh-CN" sz="1600" spc="-1" strike="noStrike">
                <a:solidFill>
                  <a:srgbClr val="ff0000"/>
                </a:solidFill>
                <a:latin typeface="Arial"/>
              </a:rPr>
              <a:t>CDC * pDC = GetDC();              //</a:t>
            </a:r>
            <a:r>
              <a:rPr b="1" lang="zh-CN" sz="1600" spc="-1" strike="noStrike">
                <a:solidFill>
                  <a:srgbClr val="ff0000"/>
                </a:solidFill>
                <a:latin typeface="Times New Roman"/>
              </a:rPr>
              <a:t>获得显示</a:t>
            </a:r>
            <a:r>
              <a:rPr b="1" lang="zh-CN" sz="1600" spc="-1" strike="noStrike">
                <a:solidFill>
                  <a:srgbClr val="ff0000"/>
                </a:solidFill>
                <a:latin typeface="Arial"/>
              </a:rPr>
              <a:t>DC</a:t>
            </a:r>
            <a:r>
              <a:rPr b="1" lang="zh-CN" sz="1600" spc="-1" strike="noStrike">
                <a:solidFill>
                  <a:srgbClr val="ff0000"/>
                </a:solidFill>
                <a:latin typeface="Times New Roman"/>
              </a:rPr>
              <a:t>的指针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zh-CN" sz="1600" spc="-1" strike="noStrike">
                <a:solidFill>
                  <a:srgbClr val="ff0000"/>
                </a:solidFill>
                <a:latin typeface="Arial"/>
              </a:rPr>
              <a:t>m_pMemDC-&gt;CreateCompatibleDC(pDC);    //</a:t>
            </a:r>
            <a:r>
              <a:rPr b="1" lang="zh-CN" sz="1600" spc="-1" strike="noStrike">
                <a:solidFill>
                  <a:srgbClr val="ff0000"/>
                </a:solidFill>
                <a:latin typeface="Times New Roman"/>
              </a:rPr>
              <a:t>创建显示</a:t>
            </a:r>
            <a:r>
              <a:rPr b="1" lang="zh-CN" sz="1600" spc="-1" strike="noStrike">
                <a:solidFill>
                  <a:srgbClr val="ff0000"/>
                </a:solidFill>
                <a:latin typeface="Arial"/>
              </a:rPr>
              <a:t>DC</a:t>
            </a:r>
            <a:r>
              <a:rPr b="1" lang="zh-CN" sz="1600" spc="-1" strike="noStrike">
                <a:solidFill>
                  <a:srgbClr val="ff0000"/>
                </a:solidFill>
                <a:latin typeface="Times New Roman"/>
              </a:rPr>
              <a:t>的兼容内存</a:t>
            </a:r>
            <a:r>
              <a:rPr b="1" lang="zh-CN" sz="1600" spc="-1" strike="noStrike">
                <a:solidFill>
                  <a:srgbClr val="ff0000"/>
                </a:solidFill>
                <a:latin typeface="Arial"/>
              </a:rPr>
              <a:t>D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zh-CN" sz="1600" spc="-1" strike="noStrike">
                <a:solidFill>
                  <a:srgbClr val="ff0000"/>
                </a:solidFill>
                <a:latin typeface="Arial"/>
              </a:rPr>
              <a:t>//</a:t>
            </a:r>
            <a:r>
              <a:rPr b="1" lang="zh-CN" sz="1600" spc="-1" strike="noStrike">
                <a:solidFill>
                  <a:srgbClr val="ff0000"/>
                </a:solidFill>
                <a:latin typeface="Times New Roman"/>
              </a:rPr>
              <a:t>创建与显示</a:t>
            </a:r>
            <a:r>
              <a:rPr b="1" lang="zh-CN" sz="1600" spc="-1" strike="noStrike">
                <a:solidFill>
                  <a:srgbClr val="ff0000"/>
                </a:solidFill>
                <a:latin typeface="Arial"/>
              </a:rPr>
              <a:t>DC</a:t>
            </a:r>
            <a:r>
              <a:rPr b="1" lang="zh-CN" sz="1600" spc="-1" strike="noStrike">
                <a:solidFill>
                  <a:srgbClr val="ff0000"/>
                </a:solidFill>
                <a:latin typeface="Times New Roman"/>
              </a:rPr>
              <a:t>的“位图”兼容的位图，位图和屏幕一样大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zh-CN" sz="1600" spc="-1" strike="noStrike">
                <a:solidFill>
                  <a:srgbClr val="ff0000"/>
                </a:solidFill>
                <a:latin typeface="Arial"/>
              </a:rPr>
              <a:t>m_pBitmap-&gt;CreateCompatibleBitmap(pDC, m_nMaxX, m_nMaxY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zh-CN" sz="1600" spc="-1" strike="noStrike">
                <a:solidFill>
                  <a:srgbClr val="ff0000"/>
                </a:solidFill>
                <a:latin typeface="Arial"/>
              </a:rPr>
              <a:t>//</a:t>
            </a:r>
            <a:r>
              <a:rPr b="1" lang="zh-CN" sz="1600" spc="-1" strike="noStrike">
                <a:solidFill>
                  <a:srgbClr val="ff0000"/>
                </a:solidFill>
                <a:latin typeface="Times New Roman"/>
              </a:rPr>
              <a:t>将兼容位图选进内存</a:t>
            </a:r>
            <a:r>
              <a:rPr b="1" lang="zh-CN" sz="1600" spc="-1" strike="noStrike">
                <a:solidFill>
                  <a:srgbClr val="ff0000"/>
                </a:solidFill>
                <a:latin typeface="Arial"/>
              </a:rPr>
              <a:t>DC</a:t>
            </a:r>
            <a:r>
              <a:rPr b="1" lang="zh-CN" sz="1600" spc="-1" strike="noStrike">
                <a:solidFill>
                  <a:srgbClr val="ff0000"/>
                </a:solidFill>
                <a:latin typeface="Times New Roman"/>
              </a:rPr>
              <a:t>，</a:t>
            </a:r>
            <a:r>
              <a:rPr b="1" lang="zh-CN" sz="1600" spc="-1" strike="noStrike">
                <a:solidFill>
                  <a:srgbClr val="ff0000"/>
                </a:solidFill>
                <a:latin typeface="Arial"/>
              </a:rPr>
              <a:t>pOldBitmap</a:t>
            </a:r>
            <a:r>
              <a:rPr b="1" lang="zh-CN" sz="1600" spc="-1" strike="noStrike">
                <a:solidFill>
                  <a:srgbClr val="ff0000"/>
                </a:solidFill>
                <a:latin typeface="Times New Roman"/>
              </a:rPr>
              <a:t>用来保存内存</a:t>
            </a:r>
            <a:r>
              <a:rPr b="1" lang="zh-CN" sz="1600" spc="-1" strike="noStrike">
                <a:solidFill>
                  <a:srgbClr val="ff0000"/>
                </a:solidFill>
                <a:latin typeface="Arial"/>
              </a:rPr>
              <a:t>DC</a:t>
            </a:r>
            <a:r>
              <a:rPr b="1" lang="zh-CN" sz="1600" spc="-1" strike="noStrike">
                <a:solidFill>
                  <a:srgbClr val="ff0000"/>
                </a:solidFill>
                <a:latin typeface="Times New Roman"/>
              </a:rPr>
              <a:t>中的原位图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zh-CN" sz="1600" spc="-1" strike="noStrike">
                <a:solidFill>
                  <a:srgbClr val="ff0000"/>
                </a:solidFill>
                <a:latin typeface="Arial"/>
              </a:rPr>
              <a:t>CBitmap * pOldBitmap = m_pMemDC-&gt;SelectObject(m_pBitmap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zh-CN" sz="1600" spc="-1" strike="noStrike">
                <a:solidFill>
                  <a:srgbClr val="ff0000"/>
                </a:solidFill>
                <a:latin typeface="Arial"/>
              </a:rPr>
              <a:t>// </a:t>
            </a:r>
            <a:r>
              <a:rPr b="1" lang="zh-CN" sz="1600" spc="-1" strike="noStrike">
                <a:solidFill>
                  <a:srgbClr val="ff0000"/>
                </a:solidFill>
                <a:latin typeface="Times New Roman"/>
              </a:rPr>
              <a:t>创建一个白色画刷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zh-CN" sz="1600" spc="-1" strike="noStrike">
                <a:solidFill>
                  <a:srgbClr val="ff0000"/>
                </a:solidFill>
                <a:latin typeface="Arial"/>
              </a:rPr>
              <a:t>CBrush brush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zh-CN" sz="1600" spc="-1" strike="noStrike">
                <a:solidFill>
                  <a:srgbClr val="ff0000"/>
                </a:solidFill>
                <a:latin typeface="Arial"/>
              </a:rPr>
              <a:t>brush.CreateStockObject(WHITE_BRUSH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zh-CN" sz="1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zh-CN" sz="1600" spc="-1" strike="noStrike">
                <a:solidFill>
                  <a:srgbClr val="ff0000"/>
                </a:solidFill>
                <a:latin typeface="Arial"/>
              </a:rPr>
              <a:t>//</a:t>
            </a:r>
            <a:r>
              <a:rPr b="1" lang="zh-CN" sz="1600" spc="-1" strike="noStrike">
                <a:solidFill>
                  <a:srgbClr val="ff0000"/>
                </a:solidFill>
                <a:latin typeface="Times New Roman"/>
              </a:rPr>
              <a:t>将选进内存</a:t>
            </a:r>
            <a:r>
              <a:rPr b="1" lang="zh-CN" sz="1600" spc="-1" strike="noStrike">
                <a:solidFill>
                  <a:srgbClr val="ff0000"/>
                </a:solidFill>
                <a:latin typeface="Arial"/>
              </a:rPr>
              <a:t>DC</a:t>
            </a:r>
            <a:r>
              <a:rPr b="1" lang="zh-CN" sz="1600" spc="-1" strike="noStrike">
                <a:solidFill>
                  <a:srgbClr val="ff0000"/>
                </a:solidFill>
                <a:latin typeface="Times New Roman"/>
              </a:rPr>
              <a:t>的位图整个填上白色（与窗口底色一致）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zh-CN" sz="1600" spc="-1" strike="noStrike">
                <a:solidFill>
                  <a:srgbClr val="ff0000"/>
                </a:solidFill>
                <a:latin typeface="Arial"/>
              </a:rPr>
              <a:t>CRect rect(-1,-1,m_nMaxX, m_nMaxY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zh-CN" sz="1600" spc="-1" strike="noStrike">
                <a:solidFill>
                  <a:srgbClr val="ff0000"/>
                </a:solidFill>
                <a:latin typeface="Arial"/>
              </a:rPr>
              <a:t>m_pMemDC-&gt;FillRect(rect,&amp;brush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zh-CN" sz="1600" spc="-1" strike="noStrike">
                <a:solidFill>
                  <a:srgbClr val="ff0000"/>
                </a:solidFill>
                <a:latin typeface="Arial"/>
              </a:rPr>
              <a:t>//</a:t>
            </a:r>
            <a:r>
              <a:rPr b="1" lang="zh-CN" sz="1600" spc="-1" strike="noStrike">
                <a:solidFill>
                  <a:srgbClr val="ff0000"/>
                </a:solidFill>
                <a:latin typeface="Times New Roman"/>
              </a:rPr>
              <a:t>恢复内存</a:t>
            </a:r>
            <a:r>
              <a:rPr b="1" lang="zh-CN" sz="1600" spc="-1" strike="noStrike">
                <a:solidFill>
                  <a:srgbClr val="ff0000"/>
                </a:solidFill>
                <a:latin typeface="Arial"/>
              </a:rPr>
              <a:t>DC</a:t>
            </a:r>
            <a:r>
              <a:rPr b="1" lang="zh-CN" sz="1600" spc="-1" strike="noStrike">
                <a:solidFill>
                  <a:srgbClr val="ff0000"/>
                </a:solidFill>
                <a:latin typeface="Times New Roman"/>
              </a:rPr>
              <a:t>中的原有位图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zh-CN" sz="1600" spc="-1" strike="noStrike">
                <a:solidFill>
                  <a:srgbClr val="ff0000"/>
                </a:solidFill>
                <a:latin typeface="Arial"/>
              </a:rPr>
              <a:t>m_pMemDC-&gt;SelectObject(pOldBitmap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zh-CN" sz="1600" spc="-1" strike="noStrike">
                <a:solidFill>
                  <a:srgbClr val="ff0000"/>
                </a:solidFill>
                <a:latin typeface="Arial"/>
              </a:rPr>
              <a:t>ReleaseDC(pDC);     // </a:t>
            </a:r>
            <a:r>
              <a:rPr b="1" lang="zh-CN" sz="1600" spc="-1" strike="noStrike">
                <a:solidFill>
                  <a:srgbClr val="ff0000"/>
                </a:solidFill>
                <a:latin typeface="Times New Roman"/>
              </a:rPr>
              <a:t>释放显示</a:t>
            </a:r>
            <a:r>
              <a:rPr b="1" lang="zh-CN" sz="1600" spc="-1" strike="noStrike">
                <a:solidFill>
                  <a:srgbClr val="ff0000"/>
                </a:solidFill>
                <a:latin typeface="Arial"/>
              </a:rPr>
              <a:t>DC</a:t>
            </a:r>
            <a:r>
              <a:rPr b="1" lang="zh-CN" sz="16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/>
          </p:nvPr>
        </p:nvSpPr>
        <p:spPr>
          <a:xfrm>
            <a:off x="380520" y="228240"/>
            <a:ext cx="8458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．在视类中添加菜单消息响应函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(1)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在视图类中添加 “直线”、“矩形”、“椭圆”、“填充”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个菜单项的消息响应函数，和“线宽”菜单中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个菜单项的消息响应函数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5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0" y="1676520"/>
            <a:ext cx="8991720" cy="395928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DrawView.h</a:t>
            </a: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文件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afx_msg void OnSelectDrawType(UINT nID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afx_msg void OnUpdateSelectDrawType(CCmdUI * pCmdUO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afx_msg void OnDrawLineWidth(UINT nID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afx_msg void OnUpdateDrawLineWidth(CCmdUI * pCmdUO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DrawView.cpp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文件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0000"/>
                </a:solidFill>
                <a:latin typeface="Arial"/>
              </a:rPr>
              <a:t>ON_COMMAND_RANGE(ID_DRAW_LINE,ID_DRAW_FILL, OnSelectDrawTyp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0000"/>
                </a:solidFill>
                <a:latin typeface="Arial"/>
              </a:rPr>
              <a:t>ON_UPDATE_COMMAND_UI_RANGE(ID_DRAW_LINE,ID_DRAW_FILL, OnUpdateSelectDrawTyp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0000"/>
                </a:solidFill>
                <a:latin typeface="Arial"/>
              </a:rPr>
              <a:t>ON_COMMAND_RANGE(ID_DRAW_LINEWIDTH_ONE,ID_DRAW_LINEWIDTH_FIVE, OnDrawLineWidth) ON_UPDATE_COMMAND_UI_RANGE(ID_DRAW_LINEWIDTH_ONE,ID_DRAW_LINEWIDTH_FIVE,OnUpdateDrawLineWidth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533520" y="76320"/>
            <a:ext cx="6705360" cy="676116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CDrawView::OnSelectDrawType(UINT nI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m_nDrawType = nID - ID_DRAW_LINE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CDrawView::OnUpdateSelectDrawType(CCmdUI * pCmdU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nID = pCmdUI-&gt;m_nID - ID_DRAW_LINE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(nID == m_nDrawTyp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CmdUI-&gt;SetCheck(true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CmdUI-&gt;SetCheck(false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CDrawView::OnDrawLineWidth(UINT nI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m_nLineWidth = nID - ID_DRAW_LINEWIDTH_ONE + 1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CDrawView::OnUpdateDrawLineWidth(CCmdUI * pCmdUI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nID = pCmdUI-&gt;m_nID - ID_DRAW_LINEWIDTH_ONE + 1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(nID == m_nLineWidt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CmdUI-&gt;SetCheck(true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CmdUI-&gt;SetCheck(false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5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/>
          </p:nvPr>
        </p:nvSpPr>
        <p:spPr>
          <a:xfrm>
            <a:off x="380520" y="0"/>
            <a:ext cx="84582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）在视图类中添加 “线色…”和“填充色…”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个菜单项的消息处理函数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5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533520"/>
            <a:ext cx="7925040" cy="564948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CDrawView::OnDrawLinecolor(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ColorDialog dlg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lg.m_cc.Flags |= CC_PREVENTFULLOPEN | CC_RGBINI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lg.m_cc.rgbResult = m_cLineColo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(dlg.DoModal() == IDOK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m_cLineColor = dlg.GetColor(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CDrawView::OnDrawFillcolor(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ColorDialog dlg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lg.m_cc.Flags |= CC_PREVENTFULLOPEN | CC_RGBINI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lg.m_cc.rgbResult = m_cFillColo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(dlg.DoModal() == IDOK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m_cFillColor = dlg.GetColor(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．在视类中添加鼠标消息响应函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52280" y="0"/>
            <a:ext cx="8763120" cy="722448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CDrawView::OnLButtonDown(UINT nFlags, CPoint point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(m_bDrawing)    return;     //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如果正在画图，则返回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etCapture();            //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捕获鼠标信息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m_bDrawing = true;      //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表示正在画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m_ptStart = point;         //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将当前鼠标点赋给画图的起点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m_ptSt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m_ptOld  = point;         //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将当前鼠标点赋给临时点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m_ ptO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(m_nDrawType == 3)    //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如果是填充，处理如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Brush * pOldBrush;     //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定义保存内存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C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中原画刷的临时指针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Bitmap * pOldBitmap;    //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定义保存内存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C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中原位图的临时指针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Brush brFill;          //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以下两行根据当前填充颜色创建实心画刷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brFill.CreateSolidBrush(m_cFillColor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将创建的画刷选入内存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C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并将原来内存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C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中的画刷保存在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OldBrush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中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OldBrush = m_pMemDC-&gt;SelectObject(&amp;brFill);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将兼容位图选入内存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C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并将原来内存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C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中的位图保存在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OldBitmap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中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OldBitmap = m_pMemDC-&gt;SelectObject(m_pBitmap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调用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DC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类的函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ExtFloodFill()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填充内存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C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的一个封闭区域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m_pMemDC-&gt;ExtFloodFill(point.x,point.y, m_pMemDC-&gt;GetPixel(point), FLOODFILLSURFACE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validate(false);      //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使视窗口无效，重画视窗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m_pMemDC-&gt;SelectObject(pOldBrush);   //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恢复内存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C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原来的画刷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m_pMemDC-&gt;SelectObject(pOldBitmap);   //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恢复内存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C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原来的位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m_bDrawing = false;    //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画图结束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View::OnLButtonDown(nFlags, point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5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．在视类中添加鼠标消息响应函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52280" y="0"/>
            <a:ext cx="8763120" cy="1222704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CDrawView::OnMouseMove(UINT nFlags, CPoint point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TODO: Add your message handler code here and/or call defau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(m_bDrawing)     //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如果正在画图，执行以下代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DC * pDC = GetDC();     //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获得显示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C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的指针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Bitmap * pOldBitmap = m_pMemDC-&gt;SelectObject(m_pBitmap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Pen pen;        //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以下两行根据线宽和线色创建实线画笔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en.CreatePen(PS_SOLID, m_nLineWidth, m_cLineColor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Pen * pOldPen = pDC-&gt;SelectObject(&amp;pen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将系统提供的空刷子选入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C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并将原来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C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中的画刷保存在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OldBrush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中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Brush * pOldBrush = (CBrush *) pDC-&gt;SelectStockObject(NULL_BRUSH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以画图起始点和上次鼠标点为对角点构造矩形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Rect rectOld(m_ptStart, m_ptOld);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ctOld.NormalizeRect(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ctOld.InflateRect(m_nLineWidth, m_nLineWidth);      //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根据线宽扩大矩形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将内存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C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中对应上面构造的矩形区域拷贝到显示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C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，擦掉原来画的矩形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DC-&gt;BitBlt(rectOld.left, rectOld.top, rectOld.Width(), rectOld.Height(),m_pMemDC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ctOld.left, rectOld.top, SRCCOPY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以画图起始点和鼠标当前点为对角点构造矩形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Rect rectNew(m_ptStart,point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witch(m_nDrawTyp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ase 0:          //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画直线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DC-&gt;MoveTo(m_ptStart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DC-&gt;LineTo(point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break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ase 1:            //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画矩形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DC-&gt;Rectangle(rectNew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break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ase 2:            //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画椭圆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DC-&gt;Ellipse(rectNew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break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efaul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break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m_pMemDC-&gt;SelectObject(pOldBitmap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m_pMemDC-&gt;SelectObject(pOldPen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m_pMemDC-&gt;SelectObject(pOldBrush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leaseDC(pDC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m_ptOld = poin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View::OnMouseMove(nFlags, point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5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．在视类中添加鼠标消息响应函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52280" y="0"/>
            <a:ext cx="8763120" cy="1000368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CDrawView::OnLButtonUp(UINT nFlags, CPoint point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TODO: Add your message handler code here and/or call defau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(m_bDrawin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m_bDrawing = false;     //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画图过程结束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Bitmap * pOldBitmap = m_pMemDC-&gt;SelectObject(m_pBitmap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Pen pen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en.CreatePen(PS_SOLID, m_nLineWidth, m_cLineColor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Pen * pOldPen = m_pMemDC-&gt;SelectObject(&amp;pen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Brush * pOldBrush = (CBrush *) m_pMemDC-&gt;SelectStockObject(NULL_BRUSH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以画图起始点和鼠标当前点（画图结束点）为对角点构造矩形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Rect rectNew(m_ptStart,point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witch(m_nDrawTyp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ase 0:      //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画直线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m_pMemDC-&gt;MoveTo(m_ptStart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m_pMemDC-&gt;LineTo(point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break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ase 1:     //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画矩形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m_pMemDC-&gt;Rectangle(rectNew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break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ase 2:     //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画椭圆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m_pMemDC-&gt;Ellipse(rectNew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break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efaul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break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validate(false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m_pMemDC-&gt;SelectObject(pOldBitmap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m_pMemDC-&gt;SelectObject(pOldPen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m_pMemDC-&gt;SelectObject(pOldBrush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leaseCapture();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View::OnLButtonUp(nFlags, point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5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使用设备环境类绘图的一个简单例子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6320" y="914040"/>
            <a:ext cx="89913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利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ppWizar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生成基于对话框程序框架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BmpTest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添加画线和画椭圆的代码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OnPain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）函数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见下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代码解释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CPaintDC dc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this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；这句代码是生成一个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CPaintDC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类的实例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dc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，生成后就可以调用他的函数来进行绘图了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dc.MoveTo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30,3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；调用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dc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的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MoveTo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函数把画线的起点定在对话框的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3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3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坐标点。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MoveTo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函数的一般调用格式为：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MoveTo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int x,int y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，其中参数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是要画直线的起始点坐标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dc.LineTo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30,3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；调用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dc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的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LineTo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函数画线到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0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0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坐标点。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LineTo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函数的一般调用格式为：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LineTo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int x,int y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，其中参数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是所画直线的终止点坐标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dc.Ellipse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20,120,160,16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；本句代码的作用是调用设备环境对象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dc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的画椭圆函数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Ellipse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画椭圆。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Ellipse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函数的一般调用格式为：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Ellipse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LPCRECT lpRect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），其中参数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lpRect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是所画椭圆的外接矩形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5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．修改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OnDraw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）函数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33520" y="1752480"/>
            <a:ext cx="8229600" cy="249984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CDrawView::OnDraw(CDC* pD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DrawDoc* pDoc = GetDocument(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SSERT_VALID(pDoc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TODO: add draw code for native data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ff0000"/>
                </a:solidFill>
                <a:latin typeface="Arial"/>
              </a:rPr>
              <a:t>CBitmap * pOldBitmap = m_pMemDC-&gt;SelectObject(m_pBitmap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ff0000"/>
                </a:solidFill>
                <a:latin typeface="Arial"/>
              </a:rPr>
              <a:t>pDC-&gt;BitBlt(0,0,m_nMaxX, m_nMaxY, m_pMemDC, 0,0, SRCCOPY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ff0000"/>
                </a:solidFill>
                <a:latin typeface="Arial"/>
              </a:rPr>
              <a:t>m_pMemDC-&gt;SelectObject(pOldBitmap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5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．添加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WM_SETCURSOR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消息的处理函数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33520" y="838080"/>
            <a:ext cx="8229600" cy="555696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BOOL CDrawView::OnSetCursor(CWnd* pWnd, UINT nHitTest, UINT message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TODO: Add your message handler code here and/or call defau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witch(m_nDrawTyp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ase 0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ase 1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ase 2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:SetCursor(AfxGetApp()-&gt;LoadStandardCursor(IDC_CROSS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break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ase 3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:SetCursor(AfxGetApp()-&gt;LoadCursor(ID_CURSOR_FILL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break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efaul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:SetCursor(AfxGetApp()-&gt;LoadStandardCursor(IDC_ARROW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break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urn true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urn CView::OnSetCursor(pWnd, nHitTest, message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5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>
            <a:hlinkClick r:id="rId1" action="ppaction://hlinksldjump"/>
          </p:cNvPr>
          <p:cNvSpPr/>
          <p:nvPr/>
        </p:nvSpPr>
        <p:spPr>
          <a:xfrm>
            <a:off x="7772400" y="6477120"/>
            <a:ext cx="10731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返回第5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3" name="projctor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5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336600"/>
            <a:ext cx="8305920" cy="635760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CBmpTestDlg::OnPaint()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IsIconic()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PaintDC dc(this); // device context for paint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endMessage(WM_ICONERASEBKGND,(WPARAM) dc.GetSafeHdc(), 0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// Center icon in client rectang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nt cxIcon = GetSystemMetrics(SM_CXICON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nt cyIcon = GetSystemMetrics(SM_CYICON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Rect rec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GetClientRect(&amp;rect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nt x = (rect.Width() - cxIcon + 1) / 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nt y = (rect.Height() - cyIcon + 1) / 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// Draw the ic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dc.DrawIcon(x, y, m_hIcon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CPaintDC dc(this);   // device context for pain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dc.MoveTo(10,10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dc.LineTo(100,100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dc.Ellipse(120,120,160,160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Dialog::OnPain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2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280" y="533520"/>
            <a:ext cx="8991720" cy="589248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void CBmpTestDlg::OnPaint(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if (IsIconic()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//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与前一页代码相同；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CPaintDC dc(this); // device context for pain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CPen newpen(PS_SOLID,1,RGB(0,255,0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CBrush newbrush(RGB(0,0,255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CPen *pOldpen=dc.SelectObject(&amp;newpen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CBrush *pOldbrush=dc.SelectObject(&amp;newbrush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dc.MoveTo(10,10)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dc.LineTo(100,100)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dc.Ellipse(80,80,120,120)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dc.SelectObject(pOldpen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dc.SelectObject(pOldbrush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CDialog::OnPaint()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改变画图颜色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5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" y="380880"/>
            <a:ext cx="87631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代码解释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1.CPen newpen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PS_SOLID,1,RGB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0,255,0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））；生成一支颜色为绿色、宽度为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个像素的实心画笔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2.CBrush newbrush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RGB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0,0,255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））；生成一只颜色为蓝色的画刷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3.CPen *pOldpen=dc.SelectObject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&amp;newpen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）；把刚生成的画笔选进设备环境对象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dc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，这样再画线就用新的笔了。当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SelectObject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函数的参数为画笔类型时，返回值为原来所用画笔的指针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4.CBrush *pOldbrush=dc.SelectObject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&amp;newbrush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）；把刚生成的画刷选进设备环境对象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dc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。当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SelectObject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函数的参数为画刷类型时，返回值为原来所用画刷的指针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5.dc.SelectObject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pOldpen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）；绘图完毕后把原来的画笔再选进设备环境对象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6.dc.SelectObject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pOldbrush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）；绘图完毕后把原来的画刷再选进设备环境对象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Cpen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类的构造函数声明是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CPen(int nPenStyle,int nWidth,COLORREF crColor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参数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nPenStyle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指明画笔的风格。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nWidth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指明以象素为单位的画笔宽度。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crColor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包含了画笔的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RGB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值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nPenStyle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的取值有以下几种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PS_SOLD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：  创建一支实线画笔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PS_DASH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： 创建一支虚线画笔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PS_DOT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： 创建一支点线画笔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PS_DASHDOT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：  创建一支虚线和点交替的画笔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PS_DASHDOTDOT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： 创建一支虚线和两点交替的画笔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5.2   GDI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CGdiObject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类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676520" y="1981080"/>
            <a:ext cx="58672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学习目标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了解图形设备接口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了解类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CGdiObject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极其派生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5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>
            <a:hlinkClick r:id="rId1" action="ppaction://hlinksldjump"/>
          </p:cNvPr>
          <p:cNvSpPr/>
          <p:nvPr/>
        </p:nvSpPr>
        <p:spPr>
          <a:xfrm>
            <a:off x="7772400" y="6095880"/>
            <a:ext cx="10731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返回第5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3" name="projctor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绘图程序实例一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用应用向导产生单文档程序框架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(BmpTest 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修改、添加资源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添加菜单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D_GRAPH_TRACK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轨迹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D_GRAPH_MOVE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移动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添加位图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DB_BIT1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DB_BIT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添加数据类型及变量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5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777960" y="0"/>
            <a:ext cx="7603920" cy="484812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class CMoveTestView : public CVie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protected: // create from serialization on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CMoveTestView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DECLARE_DYNCREATE(CMoveTestView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privat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CString flag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BOOL drawtrack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struct pointstruct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CPoint poin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struct pointstruct *nex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struct pointstruct *pointlisthead,*pointlisttrail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5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33520" y="5087880"/>
            <a:ext cx="64767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flag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：判断选择的是“轨道”菜单项还是“车轮”菜单项按钮；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drawtrack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：当用户选择轨道菜单项时，判断是否画轨道；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struct  pointstruct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：用来记录轨道中各个点的结构体；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pointlisthead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：用户所绘制轨道的点链表的头结点；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pointlisttrail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：用户所绘制轨道的点链表的尾结点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5T08:31:54Z</dcterms:created>
  <dc:creator>YangGuoxing</dc:creator>
  <dc:description/>
  <dc:language>en-US</dc:language>
  <cp:lastModifiedBy>YangGuoxing</cp:lastModifiedBy>
  <dcterms:modified xsi:type="dcterms:W3CDTF">2001-08-27T01:23:21Z</dcterms:modified>
  <cp:revision>141</cp:revision>
  <dc:subject/>
  <dc:title>第四章   菜单、快捷键和控制条 </dc:title>
</cp:coreProperties>
</file>